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ct" ContentType="image/x-pict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2658-7432-4721-A20E-C2B73EFC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BEA-20B2-498E-85DD-DAF182B1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BD3-6837-4B86-BEC0-2FB8C9AB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9D9-FE13-4143-B44E-871B3C67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BA61-9ACC-4979-9D9C-5B7160E2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8D75-6E40-4A09-8AB5-97820491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E25F-140F-4901-89CE-114EAEA1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12CE-6A33-47DB-8E4B-2C0C180D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2BF2-19F6-437E-B634-33F41777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2BEE-AD5B-47E2-9252-0F2FAB07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D3D1-13B3-459C-A4F2-C340AE39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50EE-176F-4D84-B008-BCA86A76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367C-BBC1-46C0-A956-06AD69D6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DF59-20DC-434B-969B-11C3F25E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96A7-62BD-48CD-A854-D30AED72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4C13-0214-41BE-86A9-135D1F38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88ED-8A94-46CA-91E9-3DD6BB16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009-A702-45C7-9003-F87B71ED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1BED-04C9-4633-B365-F4CD85E5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891-AE9F-44BF-A410-6E6C78B7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0D8C-23A6-4A78-B08C-34B1B5F1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A10-69D9-4456-8322-F69C7434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ADC0-9DD5-484A-932D-32D9B189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6FF-3137-402D-A209-C9316BD0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cd9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9944-0F5F-483C-A6ED-0BC8E437F9E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98B3-44B7-4D96-8FC0-79405E4E9DD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46480" y="457200"/>
            <a:ext cx="484632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Arial"/>
              </a:rPr>
              <a:t>Solving 1-Step Equ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33480" y="2897280"/>
          <a:ext cx="590724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2897280"/>
                    <a:ext cx="590724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80960" y="949320"/>
            <a:ext cx="6633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Multiplicat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19840" y="2023920"/>
            <a:ext cx="1456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5x  =  35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79800" y="1904400"/>
            <a:ext cx="4365720" cy="915480"/>
          </a:xfrm>
          <a:prstGeom prst="wedgeRectCallout">
            <a:avLst>
              <a:gd name="adj1" fmla="val -71046"/>
              <a:gd name="adj2" fmla="val -19263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 multiplication equation, you must divide each side by 5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25600" y="2476440"/>
            <a:ext cx="1423800" cy="511560"/>
            <a:chOff x="1425600" y="2476440"/>
            <a:chExt cx="1423800" cy="511560"/>
          </a:xfrm>
        </p:grpSpPr>
        <p:sp>
          <p:nvSpPr>
            <p:cNvPr id="222" name=""/>
            <p:cNvSpPr/>
            <p:nvPr/>
          </p:nvSpPr>
          <p:spPr>
            <a:xfrm>
              <a:off x="1425600" y="248112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98680" y="249696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69240" y="2500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40880" y="24764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484280" y="2050920"/>
            <a:ext cx="254160" cy="9385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54560" y="3085920"/>
            <a:ext cx="1047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=  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07600" y="4227480"/>
            <a:ext cx="159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-8x  =  24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3800" y="4107960"/>
            <a:ext cx="4365720" cy="915480"/>
          </a:xfrm>
          <a:prstGeom prst="wedgeRectCallout">
            <a:avLst>
              <a:gd name="adj1" fmla="val -74171"/>
              <a:gd name="adj2" fmla="val -4166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 multiplication equation, you must divide each side by -8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79600" y="4680000"/>
            <a:ext cx="1423800" cy="511560"/>
            <a:chOff x="1479600" y="4680000"/>
            <a:chExt cx="1423800" cy="511560"/>
          </a:xfrm>
        </p:grpSpPr>
        <p:sp>
          <p:nvSpPr>
            <p:cNvPr id="231" name=""/>
            <p:cNvSpPr/>
            <p:nvPr/>
          </p:nvSpPr>
          <p:spPr>
            <a:xfrm>
              <a:off x="1479600" y="468468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52680" y="470052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56280" y="470376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27920" y="468000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538280" y="4254480"/>
            <a:ext cx="254160" cy="9381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1960" y="5289480"/>
            <a:ext cx="1183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=  -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846440" y="949320"/>
            <a:ext cx="5706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Divis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00280" y="1789200"/>
            <a:ext cx="1386720" cy="918000"/>
            <a:chOff x="1700280" y="1789200"/>
            <a:chExt cx="1386720" cy="918000"/>
          </a:xfrm>
        </p:grpSpPr>
        <p:sp>
          <p:nvSpPr>
            <p:cNvPr id="239" name=""/>
            <p:cNvSpPr/>
            <p:nvPr/>
          </p:nvSpPr>
          <p:spPr>
            <a:xfrm>
              <a:off x="1850400" y="1789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00280" y="2227320"/>
              <a:ext cx="4683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50400" y="22194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45760" y="1985760"/>
              <a:ext cx="74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10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57800" y="1678320"/>
            <a:ext cx="4473360" cy="1097640"/>
          </a:xfrm>
          <a:prstGeom prst="wedgeRectCallout">
            <a:avLst>
              <a:gd name="adj1" fmla="val -66814"/>
              <a:gd name="adj2" fmla="val -1837"/>
            </a:avLst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Since this is a division equation, you must multiply each side by 4 to solve the equation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12120" y="1962000"/>
            <a:ext cx="2347920" cy="491040"/>
            <a:chOff x="1212120" y="1962000"/>
            <a:chExt cx="2347920" cy="491040"/>
          </a:xfrm>
        </p:grpSpPr>
        <p:sp>
          <p:nvSpPr>
            <p:cNvPr id="245" name=""/>
            <p:cNvSpPr/>
            <p:nvPr/>
          </p:nvSpPr>
          <p:spPr>
            <a:xfrm>
              <a:off x="1212120" y="196524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4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83760" y="196200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4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1368360" y="2168640"/>
            <a:ext cx="781200" cy="41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33200" y="2882880"/>
            <a:ext cx="1252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=  4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676520" y="4091040"/>
            <a:ext cx="1353960" cy="918000"/>
            <a:chOff x="1676520" y="4091040"/>
            <a:chExt cx="1353960" cy="918000"/>
          </a:xfrm>
        </p:grpSpPr>
        <p:sp>
          <p:nvSpPr>
            <p:cNvPr id="250" name=""/>
            <p:cNvSpPr/>
            <p:nvPr/>
          </p:nvSpPr>
          <p:spPr>
            <a:xfrm>
              <a:off x="1861560" y="4091040"/>
              <a:ext cx="13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76520" y="4529160"/>
              <a:ext cx="4683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26640" y="45212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57640" y="4287600"/>
              <a:ext cx="672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-2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4334040" y="3980160"/>
            <a:ext cx="4473360" cy="1097640"/>
          </a:xfrm>
          <a:prstGeom prst="wedgeRectCallout">
            <a:avLst>
              <a:gd name="adj1" fmla="val -65930"/>
              <a:gd name="adj2" fmla="val -5611"/>
            </a:avLst>
          </a:prstGeom>
          <a:solidFill>
            <a:srgbClr val="ffffff"/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Since this is a division equation, you must multiply each side by 9 to solve the equation.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188360" y="4263840"/>
            <a:ext cx="2347560" cy="490680"/>
            <a:chOff x="1188360" y="4263840"/>
            <a:chExt cx="2347560" cy="490680"/>
          </a:xfrm>
        </p:grpSpPr>
        <p:sp>
          <p:nvSpPr>
            <p:cNvPr id="256" name=""/>
            <p:cNvSpPr/>
            <p:nvPr/>
          </p:nvSpPr>
          <p:spPr>
            <a:xfrm>
              <a:off x="1188360" y="426672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9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59640" y="4263840"/>
              <a:ext cx="47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9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44600" y="4470480"/>
            <a:ext cx="781200" cy="41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78120" y="5184720"/>
            <a:ext cx="1319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  =  -1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41480" y="655200"/>
            <a:ext cx="7640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422"/>
                </a:solidFill>
                <a:latin typeface="Times New Roman"/>
              </a:rPr>
              <a:t>A Special Case: </a:t>
            </a: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Whenever you have a fractional coefficient, you multiply both sides by the reciprocal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128680" y="2071800"/>
                <a:ext cx="185580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2" name=""/>
          <p:cNvGrpSpPr/>
          <p:nvPr/>
        </p:nvGrpSpPr>
        <p:grpSpPr>
          <a:xfrm>
            <a:off x="1330200" y="2028960"/>
            <a:ext cx="3468960" cy="1417680"/>
            <a:chOff x="1330200" y="2028960"/>
            <a:chExt cx="3468960" cy="1417680"/>
          </a:xfrm>
        </p:grpSpPr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1330200" y="2028960"/>
                  <a:ext cx="797040" cy="13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4002120" y="2103480"/>
                  <a:ext cx="797040" cy="13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5" name=""/>
          <p:cNvSpPr/>
          <p:nvPr/>
        </p:nvSpPr>
        <p:spPr>
          <a:xfrm>
            <a:off x="1641600" y="2187720"/>
            <a:ext cx="858600" cy="1095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700280" y="2208240"/>
            <a:ext cx="761760" cy="9381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99120" y="2989440"/>
            <a:ext cx="214200" cy="352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37000" y="2363760"/>
            <a:ext cx="350640" cy="5857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2101680"/>
            <a:ext cx="3016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73640" y="3682800"/>
            <a:ext cx="1466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  =   1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125880" y="2108160"/>
            <a:ext cx="1622160" cy="1603440"/>
            <a:chOff x="3125880" y="2108160"/>
            <a:chExt cx="1622160" cy="1603440"/>
          </a:xfrm>
        </p:grpSpPr>
        <p:sp>
          <p:nvSpPr>
            <p:cNvPr id="272" name=""/>
            <p:cNvSpPr/>
            <p:nvPr/>
          </p:nvSpPr>
          <p:spPr>
            <a:xfrm>
              <a:off x="3125880" y="2108160"/>
              <a:ext cx="1622160" cy="56664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3887640" y="2676600"/>
              <a:ext cx="77760" cy="10350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197000" y="550800"/>
            <a:ext cx="6713640" cy="949320"/>
          </a:xfrm>
          <a:prstGeom prst="rect">
            <a:avLst/>
          </a:prstGeom>
        </p:spPr>
        <p:txBody>
          <a:bodyPr wrap="none" lIns="0" rIns="0" tIns="0" bIns="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w you try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"/>
          <p:cNvSpPr/>
          <p:nvPr/>
        </p:nvSpPr>
        <p:spPr>
          <a:xfrm>
            <a:off x="1203480" y="2023920"/>
            <a:ext cx="1890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+  17 = 3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328760" y="2506680"/>
            <a:ext cx="1933560" cy="492480"/>
            <a:chOff x="1328760" y="2506680"/>
            <a:chExt cx="1933560" cy="492480"/>
          </a:xfrm>
        </p:grpSpPr>
        <p:sp>
          <p:nvSpPr>
            <p:cNvPr id="277" name=""/>
            <p:cNvSpPr/>
            <p:nvPr/>
          </p:nvSpPr>
          <p:spPr>
            <a:xfrm>
              <a:off x="1768320" y="2511360"/>
              <a:ext cx="646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17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75560" y="2506680"/>
              <a:ext cx="953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   </a:t>
              </a: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17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28760" y="293040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090880" y="2130480"/>
            <a:ext cx="272880" cy="762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91840" y="3038400"/>
            <a:ext cx="159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-14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23720" y="2101680"/>
            <a:ext cx="1840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  -  8 = -9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981680" y="2584440"/>
            <a:ext cx="1933560" cy="492480"/>
            <a:chOff x="4981680" y="2584440"/>
            <a:chExt cx="1933560" cy="492480"/>
          </a:xfrm>
        </p:grpSpPr>
        <p:sp>
          <p:nvSpPr>
            <p:cNvPr id="284" name=""/>
            <p:cNvSpPr/>
            <p:nvPr/>
          </p:nvSpPr>
          <p:spPr>
            <a:xfrm>
              <a:off x="5475240" y="258912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33600" y="2584440"/>
              <a:ext cx="7412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81680" y="300816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5783400" y="2208240"/>
            <a:ext cx="136440" cy="781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80040" y="3116160"/>
            <a:ext cx="1602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    =   -1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93080" y="4232160"/>
            <a:ext cx="1456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6k  =  66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698480" y="4684680"/>
            <a:ext cx="1423800" cy="511560"/>
            <a:chOff x="1698480" y="4684680"/>
            <a:chExt cx="1423800" cy="511560"/>
          </a:xfrm>
        </p:grpSpPr>
        <p:sp>
          <p:nvSpPr>
            <p:cNvPr id="291" name=""/>
            <p:cNvSpPr/>
            <p:nvPr/>
          </p:nvSpPr>
          <p:spPr>
            <a:xfrm>
              <a:off x="1698480" y="468936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71560" y="4705200"/>
              <a:ext cx="45072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42120" y="47084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3760" y="468468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757520" y="4259160"/>
            <a:ext cx="253800" cy="9381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5200" y="5294160"/>
            <a:ext cx="1252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k  =  11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584680" y="4305240"/>
            <a:ext cx="1284480" cy="918000"/>
            <a:chOff x="5584680" y="4305240"/>
            <a:chExt cx="1284480" cy="918000"/>
          </a:xfrm>
        </p:grpSpPr>
        <p:sp>
          <p:nvSpPr>
            <p:cNvPr id="298" name=""/>
            <p:cNvSpPr/>
            <p:nvPr/>
          </p:nvSpPr>
          <p:spPr>
            <a:xfrm>
              <a:off x="5734800" y="43052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84680" y="4743360"/>
              <a:ext cx="46836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67840" y="4735440"/>
              <a:ext cx="340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32040" y="450180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2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029560" y="4478040"/>
            <a:ext cx="2483640" cy="490680"/>
            <a:chOff x="5029560" y="4478040"/>
            <a:chExt cx="2483640" cy="490680"/>
          </a:xfrm>
        </p:grpSpPr>
        <p:sp>
          <p:nvSpPr>
            <p:cNvPr id="303" name=""/>
            <p:cNvSpPr/>
            <p:nvPr/>
          </p:nvSpPr>
          <p:spPr>
            <a:xfrm>
              <a:off x="5029560" y="4480920"/>
              <a:ext cx="612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-5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01200" y="4478040"/>
              <a:ext cx="612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(-5)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253120" y="4684680"/>
            <a:ext cx="780840" cy="411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51720" y="5398920"/>
            <a:ext cx="1387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  =  -1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487240" y="1914120"/>
            <a:ext cx="4724280" cy="3962880"/>
            <a:chOff x="2487240" y="1914120"/>
            <a:chExt cx="4724280" cy="3962880"/>
          </a:xfrm>
        </p:grpSpPr>
        <p:grpSp>
          <p:nvGrpSpPr>
            <p:cNvPr id="93" name=""/>
            <p:cNvGrpSpPr/>
            <p:nvPr/>
          </p:nvGrpSpPr>
          <p:grpSpPr>
            <a:xfrm>
              <a:off x="3152160" y="1914120"/>
              <a:ext cx="3365640" cy="3962880"/>
              <a:chOff x="3152160" y="1914120"/>
              <a:chExt cx="3365640" cy="3962880"/>
            </a:xfrm>
          </p:grpSpPr>
          <p:sp>
            <p:nvSpPr>
              <p:cNvPr id="94" name=""/>
              <p:cNvSpPr/>
              <p:nvPr/>
            </p:nvSpPr>
            <p:spPr>
              <a:xfrm flipH="1" rot="21000">
                <a:off x="3153240" y="1924200"/>
                <a:ext cx="3362400" cy="547560"/>
              </a:xfrm>
              <a:custGeom>
                <a:avLst/>
                <a:gdLst/>
                <a:ahLst/>
                <a:rect l="l" t="t" r="r" b="b"/>
                <a:pathLst>
                  <a:path w="2118" h="303">
                    <a:moveTo>
                      <a:pt x="0" y="303"/>
                    </a:moveTo>
                    <a:lnTo>
                      <a:pt x="2118" y="303"/>
                    </a:lnTo>
                    <a:lnTo>
                      <a:pt x="2118" y="196"/>
                    </a:lnTo>
                    <a:lnTo>
                      <a:pt x="1155" y="0"/>
                    </a:lnTo>
                    <a:lnTo>
                      <a:pt x="998" y="0"/>
                    </a:lnTo>
                    <a:lnTo>
                      <a:pt x="0" y="178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4722840" y="2084400"/>
                <a:ext cx="223920" cy="2556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4010760" y="2406600"/>
                <a:ext cx="1659240" cy="3470400"/>
              </a:xfrm>
              <a:custGeom>
                <a:avLst/>
                <a:gdLst/>
                <a:ahLst/>
                <a:rect l="l" t="t" r="r" b="b"/>
                <a:pathLst>
                  <a:path w="1045" h="1923">
                    <a:moveTo>
                      <a:pt x="523" y="0"/>
                    </a:moveTo>
                    <a:lnTo>
                      <a:pt x="679" y="872"/>
                    </a:lnTo>
                    <a:lnTo>
                      <a:pt x="679" y="1620"/>
                    </a:lnTo>
                    <a:lnTo>
                      <a:pt x="784" y="1620"/>
                    </a:lnTo>
                    <a:lnTo>
                      <a:pt x="1045" y="1745"/>
                    </a:lnTo>
                    <a:lnTo>
                      <a:pt x="1045" y="1923"/>
                    </a:lnTo>
                    <a:lnTo>
                      <a:pt x="0" y="1923"/>
                    </a:lnTo>
                    <a:lnTo>
                      <a:pt x="0" y="1763"/>
                    </a:lnTo>
                    <a:lnTo>
                      <a:pt x="209" y="1638"/>
                    </a:lnTo>
                    <a:lnTo>
                      <a:pt x="331" y="1638"/>
                    </a:lnTo>
                    <a:lnTo>
                      <a:pt x="331" y="872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5284440" y="2428920"/>
              <a:ext cx="1927080" cy="2703600"/>
              <a:chOff x="5284440" y="2428920"/>
              <a:chExt cx="1927080" cy="270360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5330880" y="2428920"/>
                <a:ext cx="89352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22440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52840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487240" y="2428920"/>
              <a:ext cx="1927080" cy="2703600"/>
              <a:chOff x="2487240" y="2428920"/>
              <a:chExt cx="1927080" cy="2703600"/>
            </a:xfrm>
          </p:grpSpPr>
          <p:sp>
            <p:nvSpPr>
              <p:cNvPr id="102" name=""/>
              <p:cNvSpPr/>
              <p:nvPr/>
            </p:nvSpPr>
            <p:spPr>
              <a:xfrm flipH="1">
                <a:off x="24868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526840" y="2428920"/>
                <a:ext cx="89388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2108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3027240" y="3697200"/>
            <a:ext cx="745920" cy="809640"/>
            <a:chOff x="3027240" y="3697200"/>
            <a:chExt cx="745920" cy="809640"/>
          </a:xfrm>
        </p:grpSpPr>
        <p:sp>
          <p:nvSpPr>
            <p:cNvPr id="106" name=""/>
            <p:cNvSpPr/>
            <p:nvPr/>
          </p:nvSpPr>
          <p:spPr>
            <a:xfrm flipH="1">
              <a:off x="3027240" y="369720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074760" y="377676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V="1">
            <a:off x="7597800" y="2339640"/>
            <a:ext cx="0" cy="239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055960" y="3051000"/>
            <a:ext cx="1440" cy="240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88520"/>
            <a:ext cx="7772400" cy="1019160"/>
          </a:xfrm>
          <a:prstGeom prst="rect">
            <a:avLst/>
          </a:prstGeom>
          <a:solidFill>
            <a:srgbClr val="402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n Equation is Like a Balanc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88520"/>
            <a:ext cx="7772400" cy="1019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n Equation is Like a Balanc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487240" y="1738080"/>
            <a:ext cx="4740120" cy="4138560"/>
            <a:chOff x="2487240" y="1738080"/>
            <a:chExt cx="4740120" cy="4138560"/>
          </a:xfrm>
        </p:grpSpPr>
        <p:grpSp>
          <p:nvGrpSpPr>
            <p:cNvPr id="113" name=""/>
            <p:cNvGrpSpPr/>
            <p:nvPr/>
          </p:nvGrpSpPr>
          <p:grpSpPr>
            <a:xfrm>
              <a:off x="3134520" y="1738080"/>
              <a:ext cx="3402360" cy="4138560"/>
              <a:chOff x="3134520" y="1738080"/>
              <a:chExt cx="3402360" cy="4138560"/>
            </a:xfrm>
          </p:grpSpPr>
          <p:sp>
            <p:nvSpPr>
              <p:cNvPr id="114" name=""/>
              <p:cNvSpPr/>
              <p:nvPr/>
            </p:nvSpPr>
            <p:spPr>
              <a:xfrm flipH="1" rot="21214800">
                <a:off x="3153960" y="1924200"/>
                <a:ext cx="3362400" cy="546840"/>
              </a:xfrm>
              <a:custGeom>
                <a:avLst/>
                <a:gdLst/>
                <a:ahLst/>
                <a:rect l="l" t="t" r="r" b="b"/>
                <a:pathLst>
                  <a:path w="2118" h="303">
                    <a:moveTo>
                      <a:pt x="0" y="303"/>
                    </a:moveTo>
                    <a:lnTo>
                      <a:pt x="2118" y="303"/>
                    </a:lnTo>
                    <a:lnTo>
                      <a:pt x="2118" y="196"/>
                    </a:lnTo>
                    <a:lnTo>
                      <a:pt x="1155" y="0"/>
                    </a:lnTo>
                    <a:lnTo>
                      <a:pt x="998" y="0"/>
                    </a:lnTo>
                    <a:lnTo>
                      <a:pt x="0" y="178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4722840" y="2084760"/>
                <a:ext cx="223920" cy="25416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4011480" y="2406240"/>
                <a:ext cx="1658880" cy="3470400"/>
              </a:xfrm>
              <a:custGeom>
                <a:avLst/>
                <a:gdLst/>
                <a:ahLst/>
                <a:rect l="l" t="t" r="r" b="b"/>
                <a:pathLst>
                  <a:path w="1045" h="1923">
                    <a:moveTo>
                      <a:pt x="523" y="0"/>
                    </a:moveTo>
                    <a:lnTo>
                      <a:pt x="679" y="872"/>
                    </a:lnTo>
                    <a:lnTo>
                      <a:pt x="679" y="1620"/>
                    </a:lnTo>
                    <a:lnTo>
                      <a:pt x="784" y="1620"/>
                    </a:lnTo>
                    <a:lnTo>
                      <a:pt x="1045" y="1745"/>
                    </a:lnTo>
                    <a:lnTo>
                      <a:pt x="1045" y="1923"/>
                    </a:lnTo>
                    <a:lnTo>
                      <a:pt x="0" y="1923"/>
                    </a:lnTo>
                    <a:lnTo>
                      <a:pt x="0" y="1763"/>
                    </a:lnTo>
                    <a:lnTo>
                      <a:pt x="209" y="1638"/>
                    </a:lnTo>
                    <a:lnTo>
                      <a:pt x="331" y="1638"/>
                    </a:lnTo>
                    <a:lnTo>
                      <a:pt x="331" y="872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300280" y="2222640"/>
              <a:ext cx="1927080" cy="2703600"/>
              <a:chOff x="5300280" y="2222640"/>
              <a:chExt cx="1927080" cy="2703600"/>
            </a:xfrm>
          </p:grpSpPr>
          <p:sp>
            <p:nvSpPr>
              <p:cNvPr id="118" name=""/>
              <p:cNvSpPr/>
              <p:nvPr/>
            </p:nvSpPr>
            <p:spPr>
              <a:xfrm flipH="1">
                <a:off x="5346720" y="2222640"/>
                <a:ext cx="89352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40240" y="222264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5299920" y="427536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487240" y="2540160"/>
              <a:ext cx="1927080" cy="2703600"/>
              <a:chOff x="2487240" y="2540160"/>
              <a:chExt cx="1927080" cy="270360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2486880" y="459288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526840" y="2540160"/>
                <a:ext cx="89388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421080" y="254016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3027240" y="3808440"/>
            <a:ext cx="745920" cy="809640"/>
            <a:chOff x="3027240" y="3808440"/>
            <a:chExt cx="745920" cy="809640"/>
          </a:xfrm>
        </p:grpSpPr>
        <p:sp>
          <p:nvSpPr>
            <p:cNvPr id="126" name=""/>
            <p:cNvSpPr/>
            <p:nvPr/>
          </p:nvSpPr>
          <p:spPr>
            <a:xfrm flipH="1">
              <a:off x="3027240" y="380844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3074760" y="388800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900760" y="3490920"/>
            <a:ext cx="745920" cy="809640"/>
            <a:chOff x="5900760" y="3490920"/>
            <a:chExt cx="745920" cy="809640"/>
          </a:xfrm>
        </p:grpSpPr>
        <p:sp>
          <p:nvSpPr>
            <p:cNvPr id="129" name=""/>
            <p:cNvSpPr/>
            <p:nvPr/>
          </p:nvSpPr>
          <p:spPr>
            <a:xfrm flipH="1">
              <a:off x="5900760" y="349092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948280" y="357048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 flipV="1">
            <a:off x="2055960" y="2406240"/>
            <a:ext cx="1440" cy="227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96360" y="2852640"/>
            <a:ext cx="0" cy="239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2487240" y="1914120"/>
            <a:ext cx="4724280" cy="3962880"/>
            <a:chOff x="2487240" y="1914120"/>
            <a:chExt cx="4724280" cy="3962880"/>
          </a:xfrm>
        </p:grpSpPr>
        <p:grpSp>
          <p:nvGrpSpPr>
            <p:cNvPr id="134" name=""/>
            <p:cNvGrpSpPr/>
            <p:nvPr/>
          </p:nvGrpSpPr>
          <p:grpSpPr>
            <a:xfrm>
              <a:off x="3152160" y="1914120"/>
              <a:ext cx="3365640" cy="3962880"/>
              <a:chOff x="3152160" y="1914120"/>
              <a:chExt cx="3365640" cy="3962880"/>
            </a:xfrm>
          </p:grpSpPr>
          <p:sp>
            <p:nvSpPr>
              <p:cNvPr id="135" name=""/>
              <p:cNvSpPr/>
              <p:nvPr/>
            </p:nvSpPr>
            <p:spPr>
              <a:xfrm flipH="1" rot="21000">
                <a:off x="3153240" y="1924200"/>
                <a:ext cx="3362400" cy="547560"/>
              </a:xfrm>
              <a:custGeom>
                <a:avLst/>
                <a:gdLst/>
                <a:ahLst/>
                <a:rect l="l" t="t" r="r" b="b"/>
                <a:pathLst>
                  <a:path w="2118" h="303">
                    <a:moveTo>
                      <a:pt x="0" y="303"/>
                    </a:moveTo>
                    <a:lnTo>
                      <a:pt x="2118" y="303"/>
                    </a:lnTo>
                    <a:lnTo>
                      <a:pt x="2118" y="196"/>
                    </a:lnTo>
                    <a:lnTo>
                      <a:pt x="1155" y="0"/>
                    </a:lnTo>
                    <a:lnTo>
                      <a:pt x="998" y="0"/>
                    </a:lnTo>
                    <a:lnTo>
                      <a:pt x="0" y="178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4722840" y="2084400"/>
                <a:ext cx="223920" cy="2556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010760" y="2406600"/>
                <a:ext cx="1659240" cy="3470400"/>
              </a:xfrm>
              <a:custGeom>
                <a:avLst/>
                <a:gdLst/>
                <a:ahLst/>
                <a:rect l="l" t="t" r="r" b="b"/>
                <a:pathLst>
                  <a:path w="1045" h="1923">
                    <a:moveTo>
                      <a:pt x="523" y="0"/>
                    </a:moveTo>
                    <a:lnTo>
                      <a:pt x="679" y="872"/>
                    </a:lnTo>
                    <a:lnTo>
                      <a:pt x="679" y="1620"/>
                    </a:lnTo>
                    <a:lnTo>
                      <a:pt x="784" y="1620"/>
                    </a:lnTo>
                    <a:lnTo>
                      <a:pt x="1045" y="1745"/>
                    </a:lnTo>
                    <a:lnTo>
                      <a:pt x="1045" y="1923"/>
                    </a:lnTo>
                    <a:lnTo>
                      <a:pt x="0" y="1923"/>
                    </a:lnTo>
                    <a:lnTo>
                      <a:pt x="0" y="1763"/>
                    </a:lnTo>
                    <a:lnTo>
                      <a:pt x="209" y="1638"/>
                    </a:lnTo>
                    <a:lnTo>
                      <a:pt x="331" y="1638"/>
                    </a:lnTo>
                    <a:lnTo>
                      <a:pt x="331" y="872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284440" y="2428920"/>
              <a:ext cx="1927080" cy="2703600"/>
              <a:chOff x="5284440" y="2428920"/>
              <a:chExt cx="1927080" cy="2703600"/>
            </a:xfrm>
          </p:grpSpPr>
          <p:sp>
            <p:nvSpPr>
              <p:cNvPr id="139" name=""/>
              <p:cNvSpPr/>
              <p:nvPr/>
            </p:nvSpPr>
            <p:spPr>
              <a:xfrm flipH="1">
                <a:off x="5330880" y="2428920"/>
                <a:ext cx="89352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22440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52840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487240" y="2428920"/>
              <a:ext cx="1927080" cy="2703600"/>
              <a:chOff x="2487240" y="2428920"/>
              <a:chExt cx="1927080" cy="2703600"/>
            </a:xfrm>
          </p:grpSpPr>
          <p:sp>
            <p:nvSpPr>
              <p:cNvPr id="143" name=""/>
              <p:cNvSpPr/>
              <p:nvPr/>
            </p:nvSpPr>
            <p:spPr>
              <a:xfrm flipH="1">
                <a:off x="2486880" y="4481640"/>
                <a:ext cx="1927080" cy="650880"/>
              </a:xfrm>
              <a:custGeom>
                <a:avLst/>
                <a:gdLst/>
                <a:ahLst/>
                <a:rect l="l" t="t" r="r" b="b"/>
                <a:pathLst>
                  <a:path w="1214" h="410">
                    <a:moveTo>
                      <a:pt x="6" y="0"/>
                    </a:moveTo>
                    <a:lnTo>
                      <a:pt x="0" y="43"/>
                    </a:lnTo>
                    <a:lnTo>
                      <a:pt x="6" y="98"/>
                    </a:lnTo>
                    <a:lnTo>
                      <a:pt x="24" y="153"/>
                    </a:lnTo>
                    <a:lnTo>
                      <a:pt x="57" y="208"/>
                    </a:lnTo>
                    <a:lnTo>
                      <a:pt x="109" y="257"/>
                    </a:lnTo>
                    <a:lnTo>
                      <a:pt x="172" y="303"/>
                    </a:lnTo>
                    <a:lnTo>
                      <a:pt x="236" y="334"/>
                    </a:lnTo>
                    <a:lnTo>
                      <a:pt x="290" y="355"/>
                    </a:lnTo>
                    <a:lnTo>
                      <a:pt x="350" y="376"/>
                    </a:lnTo>
                    <a:lnTo>
                      <a:pt x="408" y="389"/>
                    </a:lnTo>
                    <a:lnTo>
                      <a:pt x="465" y="398"/>
                    </a:lnTo>
                    <a:lnTo>
                      <a:pt x="519" y="404"/>
                    </a:lnTo>
                    <a:lnTo>
                      <a:pt x="589" y="410"/>
                    </a:lnTo>
                    <a:lnTo>
                      <a:pt x="655" y="407"/>
                    </a:lnTo>
                    <a:lnTo>
                      <a:pt x="719" y="404"/>
                    </a:lnTo>
                    <a:lnTo>
                      <a:pt x="794" y="395"/>
                    </a:lnTo>
                    <a:lnTo>
                      <a:pt x="849" y="382"/>
                    </a:lnTo>
                    <a:lnTo>
                      <a:pt x="909" y="364"/>
                    </a:lnTo>
                    <a:lnTo>
                      <a:pt x="966" y="343"/>
                    </a:lnTo>
                    <a:lnTo>
                      <a:pt x="1006" y="327"/>
                    </a:lnTo>
                    <a:lnTo>
                      <a:pt x="1048" y="300"/>
                    </a:lnTo>
                    <a:lnTo>
                      <a:pt x="1081" y="278"/>
                    </a:lnTo>
                    <a:lnTo>
                      <a:pt x="1117" y="248"/>
                    </a:lnTo>
                    <a:lnTo>
                      <a:pt x="1151" y="220"/>
                    </a:lnTo>
                    <a:lnTo>
                      <a:pt x="1172" y="187"/>
                    </a:lnTo>
                    <a:lnTo>
                      <a:pt x="1193" y="150"/>
                    </a:lnTo>
                    <a:lnTo>
                      <a:pt x="1208" y="110"/>
                    </a:lnTo>
                    <a:lnTo>
                      <a:pt x="1214" y="61"/>
                    </a:lnTo>
                    <a:lnTo>
                      <a:pt x="1211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526840" y="2428920"/>
                <a:ext cx="893880" cy="20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421080" y="2428920"/>
                <a:ext cx="914400" cy="20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3027240" y="3697200"/>
            <a:ext cx="745920" cy="809640"/>
            <a:chOff x="3027240" y="3697200"/>
            <a:chExt cx="745920" cy="809640"/>
          </a:xfrm>
        </p:grpSpPr>
        <p:sp>
          <p:nvSpPr>
            <p:cNvPr id="147" name=""/>
            <p:cNvSpPr/>
            <p:nvPr/>
          </p:nvSpPr>
          <p:spPr>
            <a:xfrm flipH="1">
              <a:off x="3027240" y="369720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074760" y="377676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900760" y="3697200"/>
            <a:ext cx="745920" cy="809640"/>
            <a:chOff x="5900760" y="3697200"/>
            <a:chExt cx="745920" cy="809640"/>
          </a:xfrm>
        </p:grpSpPr>
        <p:sp>
          <p:nvSpPr>
            <p:cNvPr id="150" name=""/>
            <p:cNvSpPr/>
            <p:nvPr/>
          </p:nvSpPr>
          <p:spPr>
            <a:xfrm flipH="1">
              <a:off x="5900760" y="3697200"/>
              <a:ext cx="745920" cy="809640"/>
            </a:xfrm>
            <a:prstGeom prst="can">
              <a:avLst>
                <a:gd name="adj" fmla="val 15685"/>
              </a:avLst>
            </a:prstGeom>
            <a:solidFill>
              <a:srgbClr val="b2b2b2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948280" y="3776760"/>
              <a:ext cx="60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88520"/>
            <a:ext cx="7772400" cy="1019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n Equation is Like a Balance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6000" y="733320"/>
            <a:ext cx="7828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1-Step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04840" y="1585800"/>
            <a:ext cx="772812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1-Step Equation is an equation with 1 variable and 1 math operat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1640" y="2531880"/>
            <a:ext cx="1562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422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65160" y="4039560"/>
            <a:ext cx="20484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35440" y="3036960"/>
            <a:ext cx="6128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+ 6 = 8  -----&gt;  Addition Equatio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67280" y="3655800"/>
            <a:ext cx="636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 - 4 = 11 -----&gt;  Subtraction Equatio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60520" y="4375080"/>
            <a:ext cx="6608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9k = -18 -----&gt;  Multiplication Equatio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778040" y="4981320"/>
            <a:ext cx="5693400" cy="1032480"/>
            <a:chOff x="1778040" y="4981320"/>
            <a:chExt cx="5693400" cy="1032480"/>
          </a:xfrm>
        </p:grpSpPr>
        <p:sp>
          <p:nvSpPr>
            <p:cNvPr id="161" name=""/>
            <p:cNvSpPr/>
            <p:nvPr/>
          </p:nvSpPr>
          <p:spPr>
            <a:xfrm>
              <a:off x="1910880" y="498132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78040" y="5449680"/>
              <a:ext cx="46980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86760" y="55260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37640" y="5197320"/>
              <a:ext cx="4933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= 5 -----&gt;  Division  Equation 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128040" y="733320"/>
            <a:ext cx="3092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verse Oper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79640" y="1879560"/>
            <a:ext cx="7533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 addition is __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71320" y="1817640"/>
            <a:ext cx="1641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Subtrac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77480" y="2793960"/>
            <a:ext cx="7682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subtraction is__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11880" y="2693880"/>
            <a:ext cx="126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Addi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49680" y="3790800"/>
            <a:ext cx="782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multiplication is 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6800" y="3787920"/>
            <a:ext cx="1227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Divis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83880" y="4724280"/>
            <a:ext cx="7873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 inverse operation for division is _____________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3360" y="4664160"/>
            <a:ext cx="2036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422"/>
                </a:solidFill>
                <a:latin typeface="Times New Roman"/>
              </a:rPr>
              <a:t>Multiplic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71720" y="763560"/>
            <a:ext cx="7483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 General Remember this…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878120" y="1747800"/>
          <a:ext cx="6095880" cy="4063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203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Addit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Subtract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Multiplicat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Divisio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2000"/>
                          </a:solidFill>
                          <a:latin typeface="Symbol"/>
                          <a:ea typeface="Symbol"/>
                        </a:rPr>
                        <a:t>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4102200" y="2284560"/>
            <a:ext cx="1641240" cy="469800"/>
          </a:xfrm>
          <a:prstGeom prst="leftRightArrow">
            <a:avLst>
              <a:gd name="adj1" fmla="val 50000"/>
              <a:gd name="adj2" fmla="val 69546"/>
            </a:avLst>
          </a:prstGeom>
          <a:solidFill>
            <a:srgbClr val="0000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38560" y="4254480"/>
            <a:ext cx="1641600" cy="469800"/>
          </a:xfrm>
          <a:prstGeom prst="leftRightArrow">
            <a:avLst>
              <a:gd name="adj1" fmla="val 50000"/>
              <a:gd name="adj2" fmla="val 69561"/>
            </a:avLst>
          </a:prstGeom>
          <a:solidFill>
            <a:srgbClr val="0000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19800" y="949320"/>
            <a:ext cx="5752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Addit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05720" y="2023920"/>
            <a:ext cx="1686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+  5 = 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79800" y="1904400"/>
            <a:ext cx="4365720" cy="915480"/>
          </a:xfrm>
          <a:prstGeom prst="wedgeRectCallout">
            <a:avLst>
              <a:gd name="adj1" fmla="val -71046"/>
              <a:gd name="adj2" fmla="val -19263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n addition equation, you must subtract 5 from each side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328760" y="2506680"/>
            <a:ext cx="1933560" cy="492480"/>
            <a:chOff x="1328760" y="2506680"/>
            <a:chExt cx="1933560" cy="492480"/>
          </a:xfrm>
        </p:grpSpPr>
        <p:sp>
          <p:nvSpPr>
            <p:cNvPr id="182" name=""/>
            <p:cNvSpPr/>
            <p:nvPr/>
          </p:nvSpPr>
          <p:spPr>
            <a:xfrm>
              <a:off x="1870200" y="251136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30800" y="250668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28760" y="293040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090880" y="2130480"/>
            <a:ext cx="272880" cy="7621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9200" y="3038400"/>
            <a:ext cx="1353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 2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51440" y="4227480"/>
            <a:ext cx="1821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+  3 = -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92480" y="4107960"/>
            <a:ext cx="4365720" cy="915480"/>
          </a:xfrm>
          <a:prstGeom prst="wedgeRectCallout">
            <a:avLst>
              <a:gd name="adj1" fmla="val -66976"/>
              <a:gd name="adj2" fmla="val -17180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n addition equation, you must subtract 3 from each side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441440" y="4710240"/>
            <a:ext cx="1933560" cy="492480"/>
            <a:chOff x="1441440" y="4710240"/>
            <a:chExt cx="1933560" cy="492480"/>
          </a:xfrm>
        </p:grpSpPr>
        <p:sp>
          <p:nvSpPr>
            <p:cNvPr id="190" name=""/>
            <p:cNvSpPr/>
            <p:nvPr/>
          </p:nvSpPr>
          <p:spPr>
            <a:xfrm>
              <a:off x="1982880" y="471492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41240" y="4710240"/>
              <a:ext cx="646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41440" y="513396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203560" y="4334040"/>
            <a:ext cx="272880" cy="761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53400" y="5241960"/>
            <a:ext cx="16938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 -10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4880" y="949320"/>
            <a:ext cx="618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et’s Do Some Subtraction Equat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52880" y="2023920"/>
            <a:ext cx="1591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-  5 = 7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9800" y="1904400"/>
            <a:ext cx="4365720" cy="915480"/>
          </a:xfrm>
          <a:prstGeom prst="wedgeRectCallout">
            <a:avLst>
              <a:gd name="adj1" fmla="val -71046"/>
              <a:gd name="adj2" fmla="val -19263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Since this is an addition equation, you must add 5 to each side to balance the equa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89160" y="2506680"/>
            <a:ext cx="1933560" cy="492480"/>
            <a:chOff x="1289160" y="2506680"/>
            <a:chExt cx="1933560" cy="492480"/>
          </a:xfrm>
        </p:grpSpPr>
        <p:sp>
          <p:nvSpPr>
            <p:cNvPr id="199" name=""/>
            <p:cNvSpPr/>
            <p:nvPr/>
          </p:nvSpPr>
          <p:spPr>
            <a:xfrm>
              <a:off x="1782720" y="251136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42960" y="2506680"/>
              <a:ext cx="53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+ 5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89160" y="293040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090880" y="2130480"/>
            <a:ext cx="136440" cy="7808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58080" y="3038400"/>
            <a:ext cx="1456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12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6760" y="3759120"/>
            <a:ext cx="18964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- (-3) = 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3800" y="3791880"/>
            <a:ext cx="4365720" cy="610560"/>
          </a:xfrm>
          <a:prstGeom prst="wedgeRectCallout">
            <a:avLst>
              <a:gd name="adj1" fmla="val -69194"/>
              <a:gd name="adj2" fmla="val -17472"/>
            </a:avLst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Times New Roman"/>
              </a:rPr>
              <a:t>Remember a double negative is a positive.  Change -(-3) to + 3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601640" y="3908520"/>
            <a:ext cx="606600" cy="839520"/>
            <a:chOff x="1601640" y="3908520"/>
            <a:chExt cx="606600" cy="839520"/>
          </a:xfrm>
        </p:grpSpPr>
        <p:sp>
          <p:nvSpPr>
            <p:cNvPr id="207" name=""/>
            <p:cNvSpPr/>
            <p:nvPr/>
          </p:nvSpPr>
          <p:spPr>
            <a:xfrm>
              <a:off x="1601640" y="3908520"/>
              <a:ext cx="606600" cy="331560"/>
            </a:xfrm>
            <a:prstGeom prst="ellipse">
              <a:avLst/>
            </a:pr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33560" y="4240080"/>
              <a:ext cx="19080" cy="5079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482840" y="4640040"/>
            <a:ext cx="7010280" cy="637200"/>
            <a:chOff x="1482840" y="4640040"/>
            <a:chExt cx="7010280" cy="637200"/>
          </a:xfrm>
        </p:grpSpPr>
        <p:sp>
          <p:nvSpPr>
            <p:cNvPr id="210" name=""/>
            <p:cNvSpPr/>
            <p:nvPr/>
          </p:nvSpPr>
          <p:spPr>
            <a:xfrm>
              <a:off x="1482840" y="4640040"/>
              <a:ext cx="1584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x  + 3 = 8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27400" y="4666680"/>
              <a:ext cx="4365720" cy="610560"/>
            </a:xfrm>
            <a:prstGeom prst="wedgeRectCallout">
              <a:avLst>
                <a:gd name="adj1" fmla="val -74064"/>
                <a:gd name="adj2" fmla="val -14115"/>
              </a:avLst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2000"/>
                  </a:solidFill>
                  <a:latin typeface="Times New Roman"/>
                </a:rPr>
                <a:t>Now, solve the resulting addition equation.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382760" y="5119560"/>
            <a:ext cx="1933560" cy="492480"/>
            <a:chOff x="1382760" y="5119560"/>
            <a:chExt cx="1933560" cy="492480"/>
          </a:xfrm>
        </p:grpSpPr>
        <p:sp>
          <p:nvSpPr>
            <p:cNvPr id="213" name=""/>
            <p:cNvSpPr/>
            <p:nvPr/>
          </p:nvSpPr>
          <p:spPr>
            <a:xfrm>
              <a:off x="1924200" y="512424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84800" y="5119560"/>
              <a:ext cx="442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2000"/>
                  </a:solidFill>
                  <a:latin typeface="Times New Roman"/>
                </a:rPr>
                <a:t>- 3</a:t>
              </a:r>
              <a:endParaRPr b="0" lang="en-US" sz="3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82760" y="5543280"/>
              <a:ext cx="1933560" cy="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84480" y="4743360"/>
            <a:ext cx="136440" cy="781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53920" y="5651280"/>
            <a:ext cx="1252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    =  5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00:34:53Z</dcterms:created>
  <dc:creator>Michael Kramer</dc:creator>
  <dc:description>for Interview 4/26/02</dc:description>
  <dc:language>en-US</dc:language>
  <cp:lastModifiedBy>Eduardo Contreras</cp:lastModifiedBy>
  <dcterms:modified xsi:type="dcterms:W3CDTF">2003-11-19T19:18:51Z</dcterms:modified>
  <cp:revision>77</cp:revision>
  <dc:subject/>
  <dc:title>Solving Equations</dc:title>
</cp:coreProperties>
</file>