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792-58A4-4D08-BFBC-2565451A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837-6CDC-4B32-AFD1-594FC789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E6C-1F2B-44D9-9467-92406BD2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B64-6E4C-48CA-B445-C95FD990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9A04-A25F-486E-B7F3-DB5F7CAA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7E1C-4541-4577-80CD-FD06000E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CD7A-0466-4567-9197-5F09D240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A071-0D0D-497B-A382-D8F7CA96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B988-375E-4335-9BEC-565E6DBF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D63A-0051-47E8-BDBC-D5B5826E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FF40-6691-4E7B-BEC9-0E2C6D62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DFA-D359-4D79-B56F-A862C323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36E3-6E5C-4041-929E-E24994D0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B786-9DED-4305-9723-1487C13E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EDC5-993D-4182-BFE8-C2A968B9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D64A-2554-4B7C-90C3-D9296A0C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E4B0-9120-422F-BEE1-6B8220C9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C54-A949-4DCE-A400-D0EC79BD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66B-85F7-4E07-AC6B-52CA4780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6F5-11C1-4B65-B5D2-1E18FB00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81D-81D3-42D2-8ACA-2DA4E20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EF2-D3DF-456F-94DA-22A435F0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3E4-5134-444C-84A6-5154F12F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053-3015-4C2A-8F0A-35B06F0F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c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855E-99F4-4357-AB40-6051F7E55F7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5DE5-A5C2-43C0-A245-21B98544456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46480" y="457200"/>
            <a:ext cx="48463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Arial"/>
              </a:rPr>
              <a:t>Solving 1-Step Equ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3480" y="2897280"/>
          <a:ext cx="59072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2897280"/>
                    <a:ext cx="59072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80960" y="949320"/>
            <a:ext cx="663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Multiplica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19840" y="202392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5x  =  3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5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25600" y="2476440"/>
            <a:ext cx="1423800" cy="511560"/>
            <a:chOff x="1425600" y="2476440"/>
            <a:chExt cx="1423800" cy="511560"/>
          </a:xfrm>
        </p:grpSpPr>
        <p:sp>
          <p:nvSpPr>
            <p:cNvPr id="222" name=""/>
            <p:cNvSpPr/>
            <p:nvPr/>
          </p:nvSpPr>
          <p:spPr>
            <a:xfrm>
              <a:off x="1425600" y="24811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98680" y="24969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9240" y="2500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40880" y="2476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84280" y="2050920"/>
            <a:ext cx="254160" cy="9385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4560" y="3085920"/>
            <a:ext cx="104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7600" y="422748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8x  =  2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3800" y="4107960"/>
            <a:ext cx="4365720" cy="915480"/>
          </a:xfrm>
          <a:prstGeom prst="wedgeRectCallout">
            <a:avLst>
              <a:gd name="adj1" fmla="val -74171"/>
              <a:gd name="adj2" fmla="val -4166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-8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79600" y="4680000"/>
            <a:ext cx="1423800" cy="511560"/>
            <a:chOff x="1479600" y="4680000"/>
            <a:chExt cx="1423800" cy="511560"/>
          </a:xfrm>
        </p:grpSpPr>
        <p:sp>
          <p:nvSpPr>
            <p:cNvPr id="231" name=""/>
            <p:cNvSpPr/>
            <p:nvPr/>
          </p:nvSpPr>
          <p:spPr>
            <a:xfrm>
              <a:off x="1479600" y="468468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52680" y="47005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6280" y="470376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27920" y="46800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38280" y="4254480"/>
            <a:ext cx="2541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1960" y="5289480"/>
            <a:ext cx="11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-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46440" y="949320"/>
            <a:ext cx="570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Divis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0280" y="1789200"/>
            <a:ext cx="1386720" cy="918000"/>
            <a:chOff x="1700280" y="1789200"/>
            <a:chExt cx="1386720" cy="918000"/>
          </a:xfrm>
        </p:grpSpPr>
        <p:sp>
          <p:nvSpPr>
            <p:cNvPr id="239" name=""/>
            <p:cNvSpPr/>
            <p:nvPr/>
          </p:nvSpPr>
          <p:spPr>
            <a:xfrm>
              <a:off x="1850400" y="1789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00280" y="222732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0400" y="2219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45760" y="198576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1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57800" y="1678320"/>
            <a:ext cx="4473360" cy="1097640"/>
          </a:xfrm>
          <a:prstGeom prst="wedgeRectCallout">
            <a:avLst>
              <a:gd name="adj1" fmla="val -66814"/>
              <a:gd name="adj2" fmla="val -1837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4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12120" y="1962000"/>
            <a:ext cx="2347920" cy="491040"/>
            <a:chOff x="1212120" y="1962000"/>
            <a:chExt cx="2347920" cy="491040"/>
          </a:xfrm>
        </p:grpSpPr>
        <p:sp>
          <p:nvSpPr>
            <p:cNvPr id="245" name=""/>
            <p:cNvSpPr/>
            <p:nvPr/>
          </p:nvSpPr>
          <p:spPr>
            <a:xfrm>
              <a:off x="1212120" y="19652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83760" y="196200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368360" y="216864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33200" y="28828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4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76520" y="4091040"/>
            <a:ext cx="1353960" cy="918000"/>
            <a:chOff x="1676520" y="4091040"/>
            <a:chExt cx="1353960" cy="918000"/>
          </a:xfrm>
        </p:grpSpPr>
        <p:sp>
          <p:nvSpPr>
            <p:cNvPr id="250" name=""/>
            <p:cNvSpPr/>
            <p:nvPr/>
          </p:nvSpPr>
          <p:spPr>
            <a:xfrm>
              <a:off x="1861560" y="40910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45291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6640" y="4521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7640" y="4287600"/>
              <a:ext cx="672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-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334040" y="3980160"/>
            <a:ext cx="4473360" cy="1097640"/>
          </a:xfrm>
          <a:prstGeom prst="wedgeRectCallout">
            <a:avLst>
              <a:gd name="adj1" fmla="val -65930"/>
              <a:gd name="adj2" fmla="val -5611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9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88360" y="4263840"/>
            <a:ext cx="2347560" cy="490680"/>
            <a:chOff x="1188360" y="4263840"/>
            <a:chExt cx="2347560" cy="490680"/>
          </a:xfrm>
        </p:grpSpPr>
        <p:sp>
          <p:nvSpPr>
            <p:cNvPr id="256" name=""/>
            <p:cNvSpPr/>
            <p:nvPr/>
          </p:nvSpPr>
          <p:spPr>
            <a:xfrm>
              <a:off x="1188360" y="426672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9640" y="42638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44600" y="447048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78120" y="5184720"/>
            <a:ext cx="131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  =  -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41480" y="655200"/>
            <a:ext cx="7640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A Special Case: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Whenever you have a fractional coefficient, you multiply both sides by the reciproca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28680" y="2071800"/>
                <a:ext cx="18558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1330200" y="2028960"/>
            <a:ext cx="3468960" cy="1417680"/>
            <a:chOff x="1330200" y="2028960"/>
            <a:chExt cx="3468960" cy="1417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1330200" y="2028960"/>
                  <a:ext cx="7970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4002120" y="2103480"/>
                  <a:ext cx="7970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5" name=""/>
          <p:cNvSpPr/>
          <p:nvPr/>
        </p:nvSpPr>
        <p:spPr>
          <a:xfrm>
            <a:off x="1641600" y="2187720"/>
            <a:ext cx="858600" cy="1095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700280" y="2208240"/>
            <a:ext cx="7617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99120" y="2989440"/>
            <a:ext cx="214200" cy="35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37000" y="2363760"/>
            <a:ext cx="350640" cy="585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101680"/>
            <a:ext cx="30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73640" y="3682800"/>
            <a:ext cx="1466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=   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25880" y="2108160"/>
            <a:ext cx="1622160" cy="1603440"/>
            <a:chOff x="3125880" y="2108160"/>
            <a:chExt cx="1622160" cy="1603440"/>
          </a:xfrm>
        </p:grpSpPr>
        <p:sp>
          <p:nvSpPr>
            <p:cNvPr id="272" name=""/>
            <p:cNvSpPr/>
            <p:nvPr/>
          </p:nvSpPr>
          <p:spPr>
            <a:xfrm>
              <a:off x="3125880" y="2108160"/>
              <a:ext cx="1622160" cy="56664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887640" y="2676600"/>
              <a:ext cx="77760" cy="1035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197000" y="550800"/>
            <a:ext cx="6713640" cy="949320"/>
          </a:xfrm>
          <a:prstGeom prst="rect">
            <a:avLst/>
          </a:prstGeom>
        </p:spPr>
        <p:txBody>
          <a:bodyPr wrap="none" lIns="0" rIns="0" tIns="0" bIns="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w you try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/>
          <p:nvPr/>
        </p:nvSpPr>
        <p:spPr>
          <a:xfrm>
            <a:off x="1203480" y="2023920"/>
            <a:ext cx="189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17 = 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277" name=""/>
            <p:cNvSpPr/>
            <p:nvPr/>
          </p:nvSpPr>
          <p:spPr>
            <a:xfrm>
              <a:off x="1768320" y="251136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5560" y="2506680"/>
              <a:ext cx="953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91840" y="303840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-1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23720" y="2101680"/>
            <a:ext cx="18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-  8 = -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981680" y="2584440"/>
            <a:ext cx="1933560" cy="492480"/>
            <a:chOff x="4981680" y="2584440"/>
            <a:chExt cx="1933560" cy="492480"/>
          </a:xfrm>
        </p:grpSpPr>
        <p:sp>
          <p:nvSpPr>
            <p:cNvPr id="284" name=""/>
            <p:cNvSpPr/>
            <p:nvPr/>
          </p:nvSpPr>
          <p:spPr>
            <a:xfrm>
              <a:off x="5475240" y="258912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33600" y="258444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81680" y="30081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783400" y="220824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0040" y="3116160"/>
            <a:ext cx="160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  =   -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93080" y="423216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k  =  6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698480" y="4684680"/>
            <a:ext cx="1423800" cy="511560"/>
            <a:chOff x="1698480" y="4684680"/>
            <a:chExt cx="1423800" cy="511560"/>
          </a:xfrm>
        </p:grpSpPr>
        <p:sp>
          <p:nvSpPr>
            <p:cNvPr id="291" name=""/>
            <p:cNvSpPr/>
            <p:nvPr/>
          </p:nvSpPr>
          <p:spPr>
            <a:xfrm>
              <a:off x="1698480" y="46893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71560" y="470520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42120" y="4708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3760" y="4684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57520" y="4259160"/>
            <a:ext cx="25380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5200" y="529416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k  =  1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584680" y="4305240"/>
            <a:ext cx="1284480" cy="918000"/>
            <a:chOff x="5584680" y="4305240"/>
            <a:chExt cx="1284480" cy="918000"/>
          </a:xfrm>
        </p:grpSpPr>
        <p:sp>
          <p:nvSpPr>
            <p:cNvPr id="298" name=""/>
            <p:cNvSpPr/>
            <p:nvPr/>
          </p:nvSpPr>
          <p:spPr>
            <a:xfrm>
              <a:off x="5734800" y="4305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84680" y="47433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67840" y="473544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32040" y="450180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029560" y="4478040"/>
            <a:ext cx="2483640" cy="490680"/>
            <a:chOff x="5029560" y="4478040"/>
            <a:chExt cx="2483640" cy="490680"/>
          </a:xfrm>
        </p:grpSpPr>
        <p:sp>
          <p:nvSpPr>
            <p:cNvPr id="303" name=""/>
            <p:cNvSpPr/>
            <p:nvPr/>
          </p:nvSpPr>
          <p:spPr>
            <a:xfrm>
              <a:off x="5029560" y="448092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1200" y="447804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253120" y="4684680"/>
            <a:ext cx="78084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51720" y="539892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  =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93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94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06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7597800" y="2339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5960" y="3051000"/>
            <a:ext cx="1440" cy="240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402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 Equation is Like a Bal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87240" y="1738080"/>
            <a:ext cx="4740120" cy="4138560"/>
            <a:chOff x="2487240" y="1738080"/>
            <a:chExt cx="4740120" cy="4138560"/>
          </a:xfrm>
        </p:grpSpPr>
        <p:grpSp>
          <p:nvGrpSpPr>
            <p:cNvPr id="113" name=""/>
            <p:cNvGrpSpPr/>
            <p:nvPr/>
          </p:nvGrpSpPr>
          <p:grpSpPr>
            <a:xfrm>
              <a:off x="3134520" y="1738080"/>
              <a:ext cx="3402360" cy="4138560"/>
              <a:chOff x="3134520" y="1738080"/>
              <a:chExt cx="3402360" cy="4138560"/>
            </a:xfrm>
          </p:grpSpPr>
          <p:sp>
            <p:nvSpPr>
              <p:cNvPr id="114" name=""/>
              <p:cNvSpPr/>
              <p:nvPr/>
            </p:nvSpPr>
            <p:spPr>
              <a:xfrm flipH="1" rot="21214800">
                <a:off x="3153960" y="1924200"/>
                <a:ext cx="3362400" cy="54684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722840" y="2084760"/>
                <a:ext cx="223920" cy="2541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4011480" y="2406240"/>
                <a:ext cx="165888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00280" y="2222640"/>
              <a:ext cx="1927080" cy="2703600"/>
              <a:chOff x="5300280" y="2222640"/>
              <a:chExt cx="1927080" cy="270360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5346720" y="222264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40240" y="222264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299920" y="427536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487240" y="2540160"/>
              <a:ext cx="1927080" cy="2703600"/>
              <a:chOff x="2487240" y="2540160"/>
              <a:chExt cx="1927080" cy="270360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486880" y="459288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526840" y="254016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21080" y="254016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027240" y="3808440"/>
            <a:ext cx="745920" cy="809640"/>
            <a:chOff x="3027240" y="3808440"/>
            <a:chExt cx="745920" cy="809640"/>
          </a:xfrm>
        </p:grpSpPr>
        <p:sp>
          <p:nvSpPr>
            <p:cNvPr id="126" name=""/>
            <p:cNvSpPr/>
            <p:nvPr/>
          </p:nvSpPr>
          <p:spPr>
            <a:xfrm flipH="1">
              <a:off x="3027240" y="380844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074760" y="388800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900760" y="3490920"/>
            <a:ext cx="745920" cy="809640"/>
            <a:chOff x="5900760" y="3490920"/>
            <a:chExt cx="745920" cy="809640"/>
          </a:xfrm>
        </p:grpSpPr>
        <p:sp>
          <p:nvSpPr>
            <p:cNvPr id="129" name=""/>
            <p:cNvSpPr/>
            <p:nvPr/>
          </p:nvSpPr>
          <p:spPr>
            <a:xfrm flipH="1">
              <a:off x="5900760" y="349092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948280" y="357048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2055960" y="2406240"/>
            <a:ext cx="1440" cy="227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2852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134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135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47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900760" y="3697200"/>
            <a:ext cx="745920" cy="809640"/>
            <a:chOff x="5900760" y="3697200"/>
            <a:chExt cx="745920" cy="809640"/>
          </a:xfrm>
        </p:grpSpPr>
        <p:sp>
          <p:nvSpPr>
            <p:cNvPr id="150" name=""/>
            <p:cNvSpPr/>
            <p:nvPr/>
          </p:nvSpPr>
          <p:spPr>
            <a:xfrm flipH="1">
              <a:off x="590076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94828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6000" y="733320"/>
            <a:ext cx="7828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-Step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4840" y="1585800"/>
            <a:ext cx="77281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1-Step Equation is an equation with 1 variable and 1 math opera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1640" y="2531880"/>
            <a:ext cx="156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65160" y="4039560"/>
            <a:ext cx="2048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35440" y="3036960"/>
            <a:ext cx="6128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+ 6 = 8  -----&gt;  Addi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67280" y="3655800"/>
            <a:ext cx="636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 - 4 = 11 -----&gt;  Subtrac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60520" y="4375080"/>
            <a:ext cx="6608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9k = -18 -----&gt;  Multiplica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78040" y="4981320"/>
            <a:ext cx="5693400" cy="1032480"/>
            <a:chOff x="1778040" y="4981320"/>
            <a:chExt cx="5693400" cy="1032480"/>
          </a:xfrm>
        </p:grpSpPr>
        <p:sp>
          <p:nvSpPr>
            <p:cNvPr id="161" name=""/>
            <p:cNvSpPr/>
            <p:nvPr/>
          </p:nvSpPr>
          <p:spPr>
            <a:xfrm>
              <a:off x="1910880" y="49813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78040" y="5449680"/>
              <a:ext cx="4698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6760" y="5526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37640" y="5197320"/>
              <a:ext cx="4933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5 -----&gt;  Division  Equation 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28040" y="733320"/>
            <a:ext cx="309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verse Oper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9640" y="1879560"/>
            <a:ext cx="753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 addition is 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1320" y="1817640"/>
            <a:ext cx="164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Subtra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77480" y="2793960"/>
            <a:ext cx="76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subtraction is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11880" y="2693880"/>
            <a:ext cx="126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Add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49680" y="3790800"/>
            <a:ext cx="782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multiplication is 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6800" y="3787920"/>
            <a:ext cx="122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Divi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83880" y="4724280"/>
            <a:ext cx="787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division is ___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3360" y="4664160"/>
            <a:ext cx="203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Multipli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71720" y="763560"/>
            <a:ext cx="74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General Remember this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8120" y="174780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ddi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ivis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102200" y="2284560"/>
            <a:ext cx="1641240" cy="469800"/>
          </a:xfrm>
          <a:prstGeom prst="leftRightArrow">
            <a:avLst>
              <a:gd name="adj1" fmla="val 50000"/>
              <a:gd name="adj2" fmla="val 69546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38560" y="4254480"/>
            <a:ext cx="1641600" cy="469800"/>
          </a:xfrm>
          <a:prstGeom prst="leftRightArrow">
            <a:avLst>
              <a:gd name="adj1" fmla="val 50000"/>
              <a:gd name="adj2" fmla="val 69561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19800" y="949320"/>
            <a:ext cx="575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Addi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5720" y="2023920"/>
            <a:ext cx="168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5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182" name=""/>
            <p:cNvSpPr/>
            <p:nvPr/>
          </p:nvSpPr>
          <p:spPr>
            <a:xfrm>
              <a:off x="1870200" y="25113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0800" y="250668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0" y="3038400"/>
            <a:ext cx="1353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1440" y="4227480"/>
            <a:ext cx="1821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3 = -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2480" y="4107960"/>
            <a:ext cx="4365720" cy="915480"/>
          </a:xfrm>
          <a:prstGeom prst="wedgeRectCallout">
            <a:avLst>
              <a:gd name="adj1" fmla="val -66976"/>
              <a:gd name="adj2" fmla="val -17180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3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41440" y="4710240"/>
            <a:ext cx="1933560" cy="492480"/>
            <a:chOff x="1441440" y="4710240"/>
            <a:chExt cx="1933560" cy="492480"/>
          </a:xfrm>
        </p:grpSpPr>
        <p:sp>
          <p:nvSpPr>
            <p:cNvPr id="190" name=""/>
            <p:cNvSpPr/>
            <p:nvPr/>
          </p:nvSpPr>
          <p:spPr>
            <a:xfrm>
              <a:off x="1982880" y="471492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1240" y="471024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1440" y="51339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203560" y="4334040"/>
            <a:ext cx="272880" cy="76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53400" y="5241960"/>
            <a:ext cx="1693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4880" y="949320"/>
            <a:ext cx="61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Subtrac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52880" y="202392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add 5 to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2506680"/>
            <a:ext cx="1933560" cy="492480"/>
            <a:chOff x="1289160" y="2506680"/>
            <a:chExt cx="1933560" cy="492480"/>
          </a:xfrm>
        </p:grpSpPr>
        <p:sp>
          <p:nvSpPr>
            <p:cNvPr id="199" name=""/>
            <p:cNvSpPr/>
            <p:nvPr/>
          </p:nvSpPr>
          <p:spPr>
            <a:xfrm>
              <a:off x="1782720" y="251136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42960" y="250668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91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090880" y="2130480"/>
            <a:ext cx="136440" cy="780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8080" y="303840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1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6760" y="3759120"/>
            <a:ext cx="1896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(-3) = 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3800" y="3791880"/>
            <a:ext cx="4365720" cy="610560"/>
          </a:xfrm>
          <a:prstGeom prst="wedgeRectCallout">
            <a:avLst>
              <a:gd name="adj1" fmla="val -69194"/>
              <a:gd name="adj2" fmla="val -17472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Remember a double negative is a positive.  Change -(-3) to + 3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1640" y="3908520"/>
            <a:ext cx="606600" cy="839520"/>
            <a:chOff x="1601640" y="3908520"/>
            <a:chExt cx="606600" cy="839520"/>
          </a:xfrm>
        </p:grpSpPr>
        <p:sp>
          <p:nvSpPr>
            <p:cNvPr id="207" name=""/>
            <p:cNvSpPr/>
            <p:nvPr/>
          </p:nvSpPr>
          <p:spPr>
            <a:xfrm>
              <a:off x="1601640" y="3908520"/>
              <a:ext cx="606600" cy="33156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33560" y="4240080"/>
              <a:ext cx="19080" cy="5079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82840" y="4640040"/>
            <a:ext cx="7010280" cy="637200"/>
            <a:chOff x="1482840" y="4640040"/>
            <a:chExt cx="7010280" cy="637200"/>
          </a:xfrm>
        </p:grpSpPr>
        <p:sp>
          <p:nvSpPr>
            <p:cNvPr id="210" name=""/>
            <p:cNvSpPr/>
            <p:nvPr/>
          </p:nvSpPr>
          <p:spPr>
            <a:xfrm>
              <a:off x="1482840" y="4640040"/>
              <a:ext cx="158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  + 3 =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27400" y="4666680"/>
              <a:ext cx="4365720" cy="610560"/>
            </a:xfrm>
            <a:prstGeom prst="wedgeRectCallout">
              <a:avLst>
                <a:gd name="adj1" fmla="val -74064"/>
                <a:gd name="adj2" fmla="val -14115"/>
              </a:avLst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</a:rPr>
                <a:t>Now, solve the resulting addition equation.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382760" y="5119560"/>
            <a:ext cx="1933560" cy="492480"/>
            <a:chOff x="1382760" y="5119560"/>
            <a:chExt cx="1933560" cy="492480"/>
          </a:xfrm>
        </p:grpSpPr>
        <p:sp>
          <p:nvSpPr>
            <p:cNvPr id="213" name=""/>
            <p:cNvSpPr/>
            <p:nvPr/>
          </p:nvSpPr>
          <p:spPr>
            <a:xfrm>
              <a:off x="1924200" y="512424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84800" y="51195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2760" y="554328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84480" y="474336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3920" y="56512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0:34:53Z</dcterms:created>
  <dc:creator>Michael Kramer</dc:creator>
  <dc:description>for Interview 4/26/02</dc:description>
  <dc:language>en-US</dc:language>
  <cp:lastModifiedBy>Eduardo Contreras</cp:lastModifiedBy>
  <dcterms:modified xsi:type="dcterms:W3CDTF">2003-11-19T19:18:51Z</dcterms:modified>
  <cp:revision>77</cp:revision>
  <dc:subject/>
  <dc:title>Solving Equations</dc:title>
</cp:coreProperties>
</file>