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FE6-F95B-4EC4-B295-FA664CC2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1E0-F982-46EB-839A-CB40BB78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3A5-4B19-4CFD-8C96-D9741F69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9E2-B82A-493A-8F8E-08769B17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690F-AAEB-4470-9015-2BBF28D5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9727-B5C7-4D9B-BB27-68652495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C971-9EA2-4967-AD38-58187564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0B9A-6C73-4DD6-8BC6-DD0CEB66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68D6-54C4-4FBF-90B1-3E219438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7B6B-EEB1-46AE-A839-B16EF9C4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A8CA-FA6A-4BC1-9225-CB07E9E2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55E-08C5-4EA5-9667-7EF67037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436F-7448-4F97-B300-61C26209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7508-F2AA-470B-A714-FBAF6159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218F-68A1-4643-A39E-27C9D206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3F91-4E32-4F96-8AAC-E79A038B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E825-99BB-4A16-8331-36D56095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BF54-DC63-446E-AAAB-D5159C245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D5B-FB8F-49FC-998B-978EB0A0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F3D2-FD2D-417D-AB18-0AFAD496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15D-5CA3-4938-81B6-9A800D00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9F6-E42D-4489-8D40-1886D4B7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9B0-03C3-4DDE-B2A0-E86F818A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1FF4-C4A1-4AFE-95CE-4D9FB74E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c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08E5-6385-4768-AF0C-01C3C71119E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9DE7-4693-4813-AC6D-62EE79D7B49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46480" y="457200"/>
            <a:ext cx="48463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Arial"/>
              </a:rPr>
              <a:t>Solving 1-Step Equ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33480" y="2897280"/>
          <a:ext cx="59072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2897280"/>
                    <a:ext cx="59072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80960" y="949320"/>
            <a:ext cx="6633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Multiplica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19840" y="202392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5x  =  3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 multiplication equation, you must divide each side by 5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25600" y="2476440"/>
            <a:ext cx="1423800" cy="511560"/>
            <a:chOff x="1425600" y="2476440"/>
            <a:chExt cx="1423800" cy="511560"/>
          </a:xfrm>
        </p:grpSpPr>
        <p:sp>
          <p:nvSpPr>
            <p:cNvPr id="222" name=""/>
            <p:cNvSpPr/>
            <p:nvPr/>
          </p:nvSpPr>
          <p:spPr>
            <a:xfrm>
              <a:off x="1425600" y="248112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98680" y="249696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69240" y="2500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40880" y="24764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484280" y="2050920"/>
            <a:ext cx="254160" cy="9385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54560" y="3085920"/>
            <a:ext cx="1047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07600" y="422748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-8x  =  24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3800" y="4107960"/>
            <a:ext cx="4365720" cy="915480"/>
          </a:xfrm>
          <a:prstGeom prst="wedgeRectCallout">
            <a:avLst>
              <a:gd name="adj1" fmla="val -74171"/>
              <a:gd name="adj2" fmla="val -4166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 multiplication equation, you must divide each side by -8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79600" y="4680000"/>
            <a:ext cx="1423800" cy="511560"/>
            <a:chOff x="1479600" y="4680000"/>
            <a:chExt cx="1423800" cy="511560"/>
          </a:xfrm>
        </p:grpSpPr>
        <p:sp>
          <p:nvSpPr>
            <p:cNvPr id="231" name=""/>
            <p:cNvSpPr/>
            <p:nvPr/>
          </p:nvSpPr>
          <p:spPr>
            <a:xfrm>
              <a:off x="1479600" y="468468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52680" y="470052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56280" y="470376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27920" y="468000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538280" y="4254480"/>
            <a:ext cx="25416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1960" y="5289480"/>
            <a:ext cx="1183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-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846440" y="949320"/>
            <a:ext cx="5706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Divis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0280" y="1789200"/>
            <a:ext cx="1386720" cy="918000"/>
            <a:chOff x="1700280" y="1789200"/>
            <a:chExt cx="1386720" cy="918000"/>
          </a:xfrm>
        </p:grpSpPr>
        <p:sp>
          <p:nvSpPr>
            <p:cNvPr id="239" name=""/>
            <p:cNvSpPr/>
            <p:nvPr/>
          </p:nvSpPr>
          <p:spPr>
            <a:xfrm>
              <a:off x="1850400" y="1789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00280" y="222732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50400" y="2219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45760" y="1985760"/>
              <a:ext cx="74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10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57800" y="1678320"/>
            <a:ext cx="4473360" cy="1097640"/>
          </a:xfrm>
          <a:prstGeom prst="wedgeRectCallout">
            <a:avLst>
              <a:gd name="adj1" fmla="val -66814"/>
              <a:gd name="adj2" fmla="val -1837"/>
            </a:avLst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Since this is a division equation, you must multiply each side by 4 to solve the equation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12120" y="1962000"/>
            <a:ext cx="2347920" cy="491040"/>
            <a:chOff x="1212120" y="1962000"/>
            <a:chExt cx="2347920" cy="491040"/>
          </a:xfrm>
        </p:grpSpPr>
        <p:sp>
          <p:nvSpPr>
            <p:cNvPr id="245" name=""/>
            <p:cNvSpPr/>
            <p:nvPr/>
          </p:nvSpPr>
          <p:spPr>
            <a:xfrm>
              <a:off x="1212120" y="196524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4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83760" y="196200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4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368360" y="2168640"/>
            <a:ext cx="78120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33200" y="288288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4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76520" y="4091040"/>
            <a:ext cx="1353960" cy="918000"/>
            <a:chOff x="1676520" y="4091040"/>
            <a:chExt cx="1353960" cy="918000"/>
          </a:xfrm>
        </p:grpSpPr>
        <p:sp>
          <p:nvSpPr>
            <p:cNvPr id="250" name=""/>
            <p:cNvSpPr/>
            <p:nvPr/>
          </p:nvSpPr>
          <p:spPr>
            <a:xfrm>
              <a:off x="1861560" y="40910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76520" y="452916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6640" y="45212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57640" y="4287600"/>
              <a:ext cx="672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-2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334040" y="3980160"/>
            <a:ext cx="4473360" cy="1097640"/>
          </a:xfrm>
          <a:prstGeom prst="wedgeRectCallout">
            <a:avLst>
              <a:gd name="adj1" fmla="val -65930"/>
              <a:gd name="adj2" fmla="val -5611"/>
            </a:avLst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Since this is a division equation, you must multiply each side by 9 to solve the equation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188360" y="4263840"/>
            <a:ext cx="2347560" cy="490680"/>
            <a:chOff x="1188360" y="4263840"/>
            <a:chExt cx="2347560" cy="490680"/>
          </a:xfrm>
        </p:grpSpPr>
        <p:sp>
          <p:nvSpPr>
            <p:cNvPr id="256" name=""/>
            <p:cNvSpPr/>
            <p:nvPr/>
          </p:nvSpPr>
          <p:spPr>
            <a:xfrm>
              <a:off x="1188360" y="426672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9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59640" y="426384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9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44600" y="4470480"/>
            <a:ext cx="78120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78120" y="5184720"/>
            <a:ext cx="1319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  =  -1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41480" y="655200"/>
            <a:ext cx="7640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422"/>
                </a:solidFill>
                <a:latin typeface="Times New Roman"/>
              </a:rPr>
              <a:t>A Special Case: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Whenever you have a fractional coefficient, you multiply both sides by the reciprocal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128680" y="2071800"/>
                <a:ext cx="18558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1330200" y="2028960"/>
            <a:ext cx="3468960" cy="1417680"/>
            <a:chOff x="1330200" y="2028960"/>
            <a:chExt cx="3468960" cy="141768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1330200" y="2028960"/>
                  <a:ext cx="7970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4002120" y="2103480"/>
                  <a:ext cx="7970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5" name=""/>
          <p:cNvSpPr/>
          <p:nvPr/>
        </p:nvSpPr>
        <p:spPr>
          <a:xfrm>
            <a:off x="1641600" y="2187720"/>
            <a:ext cx="858600" cy="1095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700280" y="2208240"/>
            <a:ext cx="76176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99120" y="2989440"/>
            <a:ext cx="214200" cy="35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37000" y="2363760"/>
            <a:ext cx="350640" cy="585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2101680"/>
            <a:ext cx="301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73640" y="3682800"/>
            <a:ext cx="1466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=   1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125880" y="2108160"/>
            <a:ext cx="1622160" cy="1603440"/>
            <a:chOff x="3125880" y="2108160"/>
            <a:chExt cx="1622160" cy="1603440"/>
          </a:xfrm>
        </p:grpSpPr>
        <p:sp>
          <p:nvSpPr>
            <p:cNvPr id="272" name=""/>
            <p:cNvSpPr/>
            <p:nvPr/>
          </p:nvSpPr>
          <p:spPr>
            <a:xfrm>
              <a:off x="3125880" y="2108160"/>
              <a:ext cx="1622160" cy="56664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887640" y="2676600"/>
              <a:ext cx="77760" cy="10350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197000" y="550800"/>
            <a:ext cx="6713640" cy="949320"/>
          </a:xfrm>
          <a:prstGeom prst="rect">
            <a:avLst/>
          </a:prstGeom>
        </p:spPr>
        <p:txBody>
          <a:bodyPr wrap="none" lIns="0" rIns="0" tIns="0" bIns="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w you try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"/>
          <p:cNvSpPr/>
          <p:nvPr/>
        </p:nvSpPr>
        <p:spPr>
          <a:xfrm>
            <a:off x="1203480" y="2023920"/>
            <a:ext cx="189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17 = 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328760" y="2506680"/>
            <a:ext cx="1933560" cy="492480"/>
            <a:chOff x="1328760" y="2506680"/>
            <a:chExt cx="1933560" cy="492480"/>
          </a:xfrm>
        </p:grpSpPr>
        <p:sp>
          <p:nvSpPr>
            <p:cNvPr id="277" name=""/>
            <p:cNvSpPr/>
            <p:nvPr/>
          </p:nvSpPr>
          <p:spPr>
            <a:xfrm>
              <a:off x="1768320" y="2511360"/>
              <a:ext cx="646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1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75560" y="2506680"/>
              <a:ext cx="953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1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287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090880" y="2130480"/>
            <a:ext cx="272880" cy="762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91840" y="303840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-14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23720" y="2101680"/>
            <a:ext cx="18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-  8 = -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981680" y="2584440"/>
            <a:ext cx="1933560" cy="492480"/>
            <a:chOff x="4981680" y="2584440"/>
            <a:chExt cx="1933560" cy="492480"/>
          </a:xfrm>
        </p:grpSpPr>
        <p:sp>
          <p:nvSpPr>
            <p:cNvPr id="284" name=""/>
            <p:cNvSpPr/>
            <p:nvPr/>
          </p:nvSpPr>
          <p:spPr>
            <a:xfrm>
              <a:off x="5475240" y="258912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33600" y="2584440"/>
              <a:ext cx="74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81680" y="300816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783400" y="2208240"/>
            <a:ext cx="136440" cy="781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0040" y="3116160"/>
            <a:ext cx="1602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  =   -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93080" y="423216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6k  =  6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698480" y="4684680"/>
            <a:ext cx="1423800" cy="511560"/>
            <a:chOff x="1698480" y="4684680"/>
            <a:chExt cx="1423800" cy="511560"/>
          </a:xfrm>
        </p:grpSpPr>
        <p:sp>
          <p:nvSpPr>
            <p:cNvPr id="291" name=""/>
            <p:cNvSpPr/>
            <p:nvPr/>
          </p:nvSpPr>
          <p:spPr>
            <a:xfrm>
              <a:off x="1698480" y="468936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71560" y="470520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42120" y="47084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3760" y="46846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757520" y="4259160"/>
            <a:ext cx="25380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5200" y="529416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k  =  1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584680" y="4305240"/>
            <a:ext cx="1284480" cy="918000"/>
            <a:chOff x="5584680" y="4305240"/>
            <a:chExt cx="1284480" cy="918000"/>
          </a:xfrm>
        </p:grpSpPr>
        <p:sp>
          <p:nvSpPr>
            <p:cNvPr id="298" name=""/>
            <p:cNvSpPr/>
            <p:nvPr/>
          </p:nvSpPr>
          <p:spPr>
            <a:xfrm>
              <a:off x="5734800" y="43052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84680" y="474336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67840" y="473544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32040" y="450180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2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029560" y="4478040"/>
            <a:ext cx="2483640" cy="490680"/>
            <a:chOff x="5029560" y="4478040"/>
            <a:chExt cx="2483640" cy="490680"/>
          </a:xfrm>
        </p:grpSpPr>
        <p:sp>
          <p:nvSpPr>
            <p:cNvPr id="303" name=""/>
            <p:cNvSpPr/>
            <p:nvPr/>
          </p:nvSpPr>
          <p:spPr>
            <a:xfrm>
              <a:off x="5029560" y="4480920"/>
              <a:ext cx="612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-5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1200" y="4478040"/>
              <a:ext cx="612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-5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253120" y="4684680"/>
            <a:ext cx="78084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51720" y="5398920"/>
            <a:ext cx="138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  =  -1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487240" y="1914120"/>
            <a:ext cx="4724280" cy="3962880"/>
            <a:chOff x="2487240" y="1914120"/>
            <a:chExt cx="4724280" cy="3962880"/>
          </a:xfrm>
        </p:grpSpPr>
        <p:grpSp>
          <p:nvGrpSpPr>
            <p:cNvPr id="93" name=""/>
            <p:cNvGrpSpPr/>
            <p:nvPr/>
          </p:nvGrpSpPr>
          <p:grpSpPr>
            <a:xfrm>
              <a:off x="3152160" y="1914120"/>
              <a:ext cx="3365640" cy="3962880"/>
              <a:chOff x="3152160" y="1914120"/>
              <a:chExt cx="3365640" cy="3962880"/>
            </a:xfrm>
          </p:grpSpPr>
          <p:sp>
            <p:nvSpPr>
              <p:cNvPr id="94" name=""/>
              <p:cNvSpPr/>
              <p:nvPr/>
            </p:nvSpPr>
            <p:spPr>
              <a:xfrm flipH="1" rot="21000">
                <a:off x="3153240" y="1924200"/>
                <a:ext cx="3362400" cy="54756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722840" y="2084400"/>
                <a:ext cx="223920" cy="255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4010760" y="2406600"/>
                <a:ext cx="165924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284440" y="2428920"/>
              <a:ext cx="1927080" cy="2703600"/>
              <a:chOff x="5284440" y="2428920"/>
              <a:chExt cx="1927080" cy="270360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5330880" y="242892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22440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2840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487240" y="2428920"/>
              <a:ext cx="1927080" cy="2703600"/>
              <a:chOff x="2487240" y="2428920"/>
              <a:chExt cx="1927080" cy="2703600"/>
            </a:xfrm>
          </p:grpSpPr>
          <p:sp>
            <p:nvSpPr>
              <p:cNvPr id="102" name=""/>
              <p:cNvSpPr/>
              <p:nvPr/>
            </p:nvSpPr>
            <p:spPr>
              <a:xfrm flipH="1">
                <a:off x="24868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526840" y="242892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2108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027240" y="3697200"/>
            <a:ext cx="745920" cy="809640"/>
            <a:chOff x="3027240" y="3697200"/>
            <a:chExt cx="745920" cy="809640"/>
          </a:xfrm>
        </p:grpSpPr>
        <p:sp>
          <p:nvSpPr>
            <p:cNvPr id="106" name=""/>
            <p:cNvSpPr/>
            <p:nvPr/>
          </p:nvSpPr>
          <p:spPr>
            <a:xfrm flipH="1">
              <a:off x="302724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07476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V="1">
            <a:off x="7597800" y="233964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5960" y="3051000"/>
            <a:ext cx="1440" cy="240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402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n Equation is Like a Bal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n Equation is Like a Balanc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487240" y="1738080"/>
            <a:ext cx="4740120" cy="4138560"/>
            <a:chOff x="2487240" y="1738080"/>
            <a:chExt cx="4740120" cy="4138560"/>
          </a:xfrm>
        </p:grpSpPr>
        <p:grpSp>
          <p:nvGrpSpPr>
            <p:cNvPr id="113" name=""/>
            <p:cNvGrpSpPr/>
            <p:nvPr/>
          </p:nvGrpSpPr>
          <p:grpSpPr>
            <a:xfrm>
              <a:off x="3134520" y="1738080"/>
              <a:ext cx="3402360" cy="4138560"/>
              <a:chOff x="3134520" y="1738080"/>
              <a:chExt cx="3402360" cy="4138560"/>
            </a:xfrm>
          </p:grpSpPr>
          <p:sp>
            <p:nvSpPr>
              <p:cNvPr id="114" name=""/>
              <p:cNvSpPr/>
              <p:nvPr/>
            </p:nvSpPr>
            <p:spPr>
              <a:xfrm flipH="1" rot="21214800">
                <a:off x="3153960" y="1924200"/>
                <a:ext cx="3362400" cy="54684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4722840" y="2084760"/>
                <a:ext cx="223920" cy="2541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4011480" y="2406240"/>
                <a:ext cx="165888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300280" y="2222640"/>
              <a:ext cx="1927080" cy="2703600"/>
              <a:chOff x="5300280" y="2222640"/>
              <a:chExt cx="1927080" cy="270360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5346720" y="222264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40240" y="222264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5299920" y="427536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487240" y="2540160"/>
              <a:ext cx="1927080" cy="2703600"/>
              <a:chOff x="2487240" y="2540160"/>
              <a:chExt cx="1927080" cy="270360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486880" y="459288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526840" y="254016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21080" y="254016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027240" y="3808440"/>
            <a:ext cx="745920" cy="809640"/>
            <a:chOff x="3027240" y="3808440"/>
            <a:chExt cx="745920" cy="809640"/>
          </a:xfrm>
        </p:grpSpPr>
        <p:sp>
          <p:nvSpPr>
            <p:cNvPr id="126" name=""/>
            <p:cNvSpPr/>
            <p:nvPr/>
          </p:nvSpPr>
          <p:spPr>
            <a:xfrm flipH="1">
              <a:off x="3027240" y="380844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074760" y="388800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900760" y="3490920"/>
            <a:ext cx="745920" cy="809640"/>
            <a:chOff x="5900760" y="3490920"/>
            <a:chExt cx="745920" cy="809640"/>
          </a:xfrm>
        </p:grpSpPr>
        <p:sp>
          <p:nvSpPr>
            <p:cNvPr id="129" name=""/>
            <p:cNvSpPr/>
            <p:nvPr/>
          </p:nvSpPr>
          <p:spPr>
            <a:xfrm flipH="1">
              <a:off x="5900760" y="349092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948280" y="357048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2055960" y="2406240"/>
            <a:ext cx="1440" cy="227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96360" y="285264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2487240" y="1914120"/>
            <a:ext cx="4724280" cy="3962880"/>
            <a:chOff x="2487240" y="1914120"/>
            <a:chExt cx="4724280" cy="3962880"/>
          </a:xfrm>
        </p:grpSpPr>
        <p:grpSp>
          <p:nvGrpSpPr>
            <p:cNvPr id="134" name=""/>
            <p:cNvGrpSpPr/>
            <p:nvPr/>
          </p:nvGrpSpPr>
          <p:grpSpPr>
            <a:xfrm>
              <a:off x="3152160" y="1914120"/>
              <a:ext cx="3365640" cy="3962880"/>
              <a:chOff x="3152160" y="1914120"/>
              <a:chExt cx="3365640" cy="3962880"/>
            </a:xfrm>
          </p:grpSpPr>
          <p:sp>
            <p:nvSpPr>
              <p:cNvPr id="135" name=""/>
              <p:cNvSpPr/>
              <p:nvPr/>
            </p:nvSpPr>
            <p:spPr>
              <a:xfrm flipH="1" rot="21000">
                <a:off x="3153240" y="1924200"/>
                <a:ext cx="3362400" cy="54756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4722840" y="2084400"/>
                <a:ext cx="223920" cy="255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010760" y="2406600"/>
                <a:ext cx="165924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284440" y="2428920"/>
              <a:ext cx="1927080" cy="2703600"/>
              <a:chOff x="5284440" y="2428920"/>
              <a:chExt cx="1927080" cy="2703600"/>
            </a:xfrm>
          </p:grpSpPr>
          <p:sp>
            <p:nvSpPr>
              <p:cNvPr id="139" name=""/>
              <p:cNvSpPr/>
              <p:nvPr/>
            </p:nvSpPr>
            <p:spPr>
              <a:xfrm flipH="1">
                <a:off x="5330880" y="242892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2440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52840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487240" y="2428920"/>
              <a:ext cx="1927080" cy="2703600"/>
              <a:chOff x="2487240" y="2428920"/>
              <a:chExt cx="1927080" cy="2703600"/>
            </a:xfrm>
          </p:grpSpPr>
          <p:sp>
            <p:nvSpPr>
              <p:cNvPr id="143" name=""/>
              <p:cNvSpPr/>
              <p:nvPr/>
            </p:nvSpPr>
            <p:spPr>
              <a:xfrm flipH="1">
                <a:off x="24868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526840" y="242892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2108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3027240" y="3697200"/>
            <a:ext cx="745920" cy="809640"/>
            <a:chOff x="3027240" y="3697200"/>
            <a:chExt cx="745920" cy="809640"/>
          </a:xfrm>
        </p:grpSpPr>
        <p:sp>
          <p:nvSpPr>
            <p:cNvPr id="147" name=""/>
            <p:cNvSpPr/>
            <p:nvPr/>
          </p:nvSpPr>
          <p:spPr>
            <a:xfrm flipH="1">
              <a:off x="302724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07476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900760" y="3697200"/>
            <a:ext cx="745920" cy="809640"/>
            <a:chOff x="5900760" y="3697200"/>
            <a:chExt cx="745920" cy="809640"/>
          </a:xfrm>
        </p:grpSpPr>
        <p:sp>
          <p:nvSpPr>
            <p:cNvPr id="150" name=""/>
            <p:cNvSpPr/>
            <p:nvPr/>
          </p:nvSpPr>
          <p:spPr>
            <a:xfrm flipH="1">
              <a:off x="590076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94828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n Equation is Like a Balanc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6000" y="733320"/>
            <a:ext cx="7828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-Step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04840" y="1585800"/>
            <a:ext cx="77281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1-Step Equation is an equation with 1 variable and 1 math operat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1640" y="2531880"/>
            <a:ext cx="1562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422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65160" y="4039560"/>
            <a:ext cx="20484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35440" y="3036960"/>
            <a:ext cx="6128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+ 6 = 8  -----&gt;  Addi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67280" y="3655800"/>
            <a:ext cx="636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 - 4 = 11 -----&gt;  Subtrac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60520" y="4375080"/>
            <a:ext cx="6608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9k = -18 -----&gt;  Multiplica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778040" y="4981320"/>
            <a:ext cx="5693400" cy="1032480"/>
            <a:chOff x="1778040" y="4981320"/>
            <a:chExt cx="5693400" cy="1032480"/>
          </a:xfrm>
        </p:grpSpPr>
        <p:sp>
          <p:nvSpPr>
            <p:cNvPr id="161" name=""/>
            <p:cNvSpPr/>
            <p:nvPr/>
          </p:nvSpPr>
          <p:spPr>
            <a:xfrm>
              <a:off x="1910880" y="49813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78040" y="5449680"/>
              <a:ext cx="4698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86760" y="55260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37640" y="5197320"/>
              <a:ext cx="4933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5 -----&gt;  Division  Equation 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28040" y="733320"/>
            <a:ext cx="3092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verse Oper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9640" y="1879560"/>
            <a:ext cx="7533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 addition is 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71320" y="1817640"/>
            <a:ext cx="1641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Subtra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77480" y="2793960"/>
            <a:ext cx="76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subtraction is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11880" y="2693880"/>
            <a:ext cx="126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Addi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49680" y="3790800"/>
            <a:ext cx="782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multiplication is 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6800" y="3787920"/>
            <a:ext cx="1227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Divis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83880" y="4724280"/>
            <a:ext cx="7873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division is ___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3360" y="4664160"/>
            <a:ext cx="203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Multiplic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71720" y="763560"/>
            <a:ext cx="7483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 General Remember this…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878120" y="174780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0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Addi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Subtrac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Multiplica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ivis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102200" y="2284560"/>
            <a:ext cx="1641240" cy="469800"/>
          </a:xfrm>
          <a:prstGeom prst="leftRightArrow">
            <a:avLst>
              <a:gd name="adj1" fmla="val 50000"/>
              <a:gd name="adj2" fmla="val 69546"/>
            </a:avLst>
          </a:prstGeom>
          <a:solidFill>
            <a:srgbClr val="0000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38560" y="4254480"/>
            <a:ext cx="1641600" cy="469800"/>
          </a:xfrm>
          <a:prstGeom prst="leftRightArrow">
            <a:avLst>
              <a:gd name="adj1" fmla="val 50000"/>
              <a:gd name="adj2" fmla="val 69561"/>
            </a:avLst>
          </a:prstGeom>
          <a:solidFill>
            <a:srgbClr val="0000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19800" y="949320"/>
            <a:ext cx="575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Addi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05720" y="2023920"/>
            <a:ext cx="1686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5 =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subtract 5 from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328760" y="2506680"/>
            <a:ext cx="1933560" cy="492480"/>
            <a:chOff x="1328760" y="2506680"/>
            <a:chExt cx="1933560" cy="492480"/>
          </a:xfrm>
        </p:grpSpPr>
        <p:sp>
          <p:nvSpPr>
            <p:cNvPr id="182" name=""/>
            <p:cNvSpPr/>
            <p:nvPr/>
          </p:nvSpPr>
          <p:spPr>
            <a:xfrm>
              <a:off x="1870200" y="251136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30800" y="250668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287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090880" y="2130480"/>
            <a:ext cx="272880" cy="762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9200" y="3038400"/>
            <a:ext cx="1353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 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51440" y="4227480"/>
            <a:ext cx="1821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3 = -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2480" y="4107960"/>
            <a:ext cx="4365720" cy="915480"/>
          </a:xfrm>
          <a:prstGeom prst="wedgeRectCallout">
            <a:avLst>
              <a:gd name="adj1" fmla="val -66976"/>
              <a:gd name="adj2" fmla="val -17180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subtract 3 from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441440" y="4710240"/>
            <a:ext cx="1933560" cy="492480"/>
            <a:chOff x="1441440" y="4710240"/>
            <a:chExt cx="1933560" cy="492480"/>
          </a:xfrm>
        </p:grpSpPr>
        <p:sp>
          <p:nvSpPr>
            <p:cNvPr id="190" name=""/>
            <p:cNvSpPr/>
            <p:nvPr/>
          </p:nvSpPr>
          <p:spPr>
            <a:xfrm>
              <a:off x="1982880" y="471492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1240" y="4710240"/>
              <a:ext cx="646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1440" y="513396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203560" y="4334040"/>
            <a:ext cx="272880" cy="761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53400" y="5241960"/>
            <a:ext cx="1693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 -1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4880" y="949320"/>
            <a:ext cx="618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Subtrac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52880" y="202392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-  5 =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add 5 to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2506680"/>
            <a:ext cx="1933560" cy="492480"/>
            <a:chOff x="1289160" y="2506680"/>
            <a:chExt cx="1933560" cy="492480"/>
          </a:xfrm>
        </p:grpSpPr>
        <p:sp>
          <p:nvSpPr>
            <p:cNvPr id="199" name=""/>
            <p:cNvSpPr/>
            <p:nvPr/>
          </p:nvSpPr>
          <p:spPr>
            <a:xfrm>
              <a:off x="1782720" y="251136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42960" y="250668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891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090880" y="2130480"/>
            <a:ext cx="136440" cy="7808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58080" y="303840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1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6760" y="3759120"/>
            <a:ext cx="1896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- (-3) = 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3800" y="3791880"/>
            <a:ext cx="4365720" cy="610560"/>
          </a:xfrm>
          <a:prstGeom prst="wedgeRectCallout">
            <a:avLst>
              <a:gd name="adj1" fmla="val -69194"/>
              <a:gd name="adj2" fmla="val -17472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Remember a double negative is a positive.  Change -(-3) to + 3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601640" y="3908520"/>
            <a:ext cx="606600" cy="839520"/>
            <a:chOff x="1601640" y="3908520"/>
            <a:chExt cx="606600" cy="839520"/>
          </a:xfrm>
        </p:grpSpPr>
        <p:sp>
          <p:nvSpPr>
            <p:cNvPr id="207" name=""/>
            <p:cNvSpPr/>
            <p:nvPr/>
          </p:nvSpPr>
          <p:spPr>
            <a:xfrm>
              <a:off x="1601640" y="3908520"/>
              <a:ext cx="606600" cy="33156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33560" y="4240080"/>
              <a:ext cx="19080" cy="5079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482840" y="4640040"/>
            <a:ext cx="7010280" cy="637200"/>
            <a:chOff x="1482840" y="4640040"/>
            <a:chExt cx="7010280" cy="637200"/>
          </a:xfrm>
        </p:grpSpPr>
        <p:sp>
          <p:nvSpPr>
            <p:cNvPr id="210" name=""/>
            <p:cNvSpPr/>
            <p:nvPr/>
          </p:nvSpPr>
          <p:spPr>
            <a:xfrm>
              <a:off x="1482840" y="4640040"/>
              <a:ext cx="158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x  + 3 =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27400" y="4666680"/>
              <a:ext cx="4365720" cy="610560"/>
            </a:xfrm>
            <a:prstGeom prst="wedgeRectCallout">
              <a:avLst>
                <a:gd name="adj1" fmla="val -74064"/>
                <a:gd name="adj2" fmla="val -14115"/>
              </a:avLst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2000"/>
                  </a:solidFill>
                  <a:latin typeface="Times New Roman"/>
                </a:rPr>
                <a:t>Now, solve the resulting addition equation.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382760" y="5119560"/>
            <a:ext cx="1933560" cy="492480"/>
            <a:chOff x="1382760" y="5119560"/>
            <a:chExt cx="1933560" cy="492480"/>
          </a:xfrm>
        </p:grpSpPr>
        <p:sp>
          <p:nvSpPr>
            <p:cNvPr id="213" name=""/>
            <p:cNvSpPr/>
            <p:nvPr/>
          </p:nvSpPr>
          <p:spPr>
            <a:xfrm>
              <a:off x="1924200" y="512424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84800" y="511956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82760" y="554328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84480" y="4743360"/>
            <a:ext cx="136440" cy="781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3920" y="565128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0:34:53Z</dcterms:created>
  <dc:creator>Michael Kramer</dc:creator>
  <dc:description>for Interview 4/26/02</dc:description>
  <dc:language>en-US</dc:language>
  <cp:lastModifiedBy>Eduardo Contreras</cp:lastModifiedBy>
  <dcterms:modified xsi:type="dcterms:W3CDTF">2003-11-19T19:18:51Z</dcterms:modified>
  <cp:revision>77</cp:revision>
  <dc:subject/>
  <dc:title>Solving Equations</dc:title>
</cp:coreProperties>
</file>