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E0F5-F207-4A8B-8139-DF4042AA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E7B-D49F-4D89-A60D-AD350188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23B-FDD1-45C7-BC41-16AC9D31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5AE-EEBA-4B1A-8BE7-E765EF5E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1CD-9DFF-4E87-89A1-1315557E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BF4-E06B-44E0-A501-7CDB28AA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9A8-7EC4-4D8B-8615-C9461A85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C2F-287D-4356-80FE-29E122CB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EAF-38FE-45D8-ACCB-47B33B49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B9A-1C92-4C99-A7C1-D50AA48D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DFA-C272-454D-89B4-475E21C9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880D-9846-4546-829F-A242D940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0C71-5D0A-425B-9024-22B502C92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04920"/>
            <a:ext cx="400680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lving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2209680"/>
            <a:ext cx="444996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-Ste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58402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81280" y="-137160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86600" y="609480"/>
            <a:ext cx="1197000" cy="2033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2057400"/>
            <a:ext cx="1197000" cy="2033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523880" y="4191120"/>
            <a:ext cx="627552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qua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olve the following 2-step equation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981080" y="3200400"/>
                <a:ext cx="53341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r first step will be to isolate the variable term.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921040" y="2222640"/>
                <a:ext cx="3708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743200" y="2133720"/>
            <a:ext cx="1143000" cy="8380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97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first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the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0415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r subt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016080" y="4114800"/>
                <a:ext cx="3517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228600"/>
            <a:ext cx="914400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always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      do the addition                    or subtraction                   </a:t>
            </a: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first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962520" y="488952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575320" y="4876920"/>
                <a:ext cx="977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3048120" y="563868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500"/>
                            </p:stCondLst>
                            <p:childTnLst>
                              <p:par>
                                <p:cTn id="24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16080" y="4114800"/>
                <a:ext cx="3517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962520" y="488952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75320" y="4876920"/>
                <a:ext cx="977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048120" y="5638680"/>
            <a:ext cx="3504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267080" y="3429000"/>
            <a:ext cx="4876920" cy="1981080"/>
            <a:chOff x="4267080" y="3429000"/>
            <a:chExt cx="4876920" cy="1981080"/>
          </a:xfrm>
        </p:grpSpPr>
        <p:sp>
          <p:nvSpPr>
            <p:cNvPr id="113" name=""/>
            <p:cNvSpPr/>
            <p:nvPr/>
          </p:nvSpPr>
          <p:spPr>
            <a:xfrm>
              <a:off x="4267080" y="4114800"/>
              <a:ext cx="685800" cy="1295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9400" y="3429000"/>
              <a:ext cx="2514600" cy="1600200"/>
            </a:xfrm>
            <a:prstGeom prst="cloudCallout">
              <a:avLst>
                <a:gd name="adj1" fmla="val -56185"/>
                <a:gd name="adj2" fmla="val 7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99 - 9 = 9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076640" y="4114800"/>
                <a:ext cx="2400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038480" y="4794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794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267080" y="4952880"/>
                <a:ext cx="381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867280" y="4952880"/>
                <a:ext cx="3812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" name=""/>
          <p:cNvGrpSpPr/>
          <p:nvPr/>
        </p:nvGrpSpPr>
        <p:grpSpPr>
          <a:xfrm>
            <a:off x="4114800" y="3657600"/>
            <a:ext cx="5029200" cy="1905120"/>
            <a:chOff x="4114800" y="3657600"/>
            <a:chExt cx="5029200" cy="1905120"/>
          </a:xfrm>
        </p:grpSpPr>
        <p:sp>
          <p:nvSpPr>
            <p:cNvPr id="122" name=""/>
            <p:cNvSpPr/>
            <p:nvPr/>
          </p:nvSpPr>
          <p:spPr>
            <a:xfrm>
              <a:off x="4114800" y="4114800"/>
              <a:ext cx="38088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0800" y="3657600"/>
              <a:ext cx="2743200" cy="1600200"/>
            </a:xfrm>
            <a:prstGeom prst="cloudCallout">
              <a:avLst>
                <a:gd name="adj1" fmla="val -52259"/>
                <a:gd name="adj2" fmla="val 394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90 </a:t>
              </a:r>
              <a:r>
                <a:rPr b="1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3400" spc="-1" strike="noStrike">
                  <a:solidFill>
                    <a:srgbClr val="000000"/>
                  </a:solidFill>
                  <a:latin typeface="Times New Roman"/>
                </a:rPr>
                <a:t> 9 = 10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2860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Now you have changed the equation to one you can easily solve.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457880" y="4114800"/>
                <a:ext cx="1942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s you solve these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113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just need to remember one thing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54040" y="346716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71600" y="4381560"/>
                <a:ext cx="525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90680" y="53722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the addition                   or subt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9810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Times New Roman"/>
              </a:rPr>
              <a:t>first!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54040" y="346716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371600" y="4381560"/>
                <a:ext cx="52578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390680" y="53722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54040" y="762120"/>
                <a:ext cx="464832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71600" y="2705040"/>
                <a:ext cx="52578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390680" y="4686480"/>
                <a:ext cx="56642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43200" y="1676520"/>
                <a:ext cx="24004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654280" y="3695760"/>
                <a:ext cx="2984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679840" y="5676840"/>
                <a:ext cx="2832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already know how       to solve 1- step equations                           like the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4495680"/>
                <a:ext cx="2387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29200" y="4495680"/>
                <a:ext cx="273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e inverse operations              to isolate                            the variab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523880" y="4495680"/>
                <a:ext cx="2387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029200" y="4495680"/>
                <a:ext cx="27306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44792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5181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52480" y="5334120"/>
                <a:ext cx="35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429000" y="5334120"/>
                <a:ext cx="35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562720" y="525780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086600" y="5257800"/>
                <a:ext cx="9777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4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99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24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9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4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9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se inverse operations              to isolate                            the variab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79560" y="4495680"/>
            <a:ext cx="1930320" cy="622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29200" y="4489560"/>
            <a:ext cx="2082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ut most linear equations              are slightly more      complicate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97040" y="3429000"/>
                <a:ext cx="39499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mathematics, it’s often easier to break a problem down into simpler ste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or example, break …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666880" y="4876920"/>
                <a:ext cx="39499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 . . into something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219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e alrea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623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know how to do.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79840" y="3505320"/>
            <a:ext cx="394956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1359000" cy="609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359000" cy="609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66880" y="51055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581280" y="5410080"/>
            <a:ext cx="2362320" cy="622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114800" y="3505320"/>
            <a:ext cx="762120" cy="1447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2133720"/>
            <a:ext cx="2133720" cy="2514600"/>
          </a:xfrm>
          <a:prstGeom prst="cloudCallout">
            <a:avLst>
              <a:gd name="adj1" fmla="val -53273"/>
              <a:gd name="adj2" fmla="val 47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5 + 21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124080" y="3429000"/>
            <a:ext cx="5562720" cy="2286000"/>
            <a:chOff x="3124080" y="3429000"/>
            <a:chExt cx="5562720" cy="2286000"/>
          </a:xfrm>
        </p:grpSpPr>
        <p:sp>
          <p:nvSpPr>
            <p:cNvPr id="79" name=""/>
            <p:cNvSpPr/>
            <p:nvPr/>
          </p:nvSpPr>
          <p:spPr>
            <a:xfrm>
              <a:off x="3124080" y="4191120"/>
              <a:ext cx="457200" cy="12952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019920" y="3429000"/>
              <a:ext cx="2666880" cy="2286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8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2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7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2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3700"/>
                            </p:stCondLst>
                            <p:childTnLst>
                              <p:par>
                                <p:cTn id="13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62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8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can solv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14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is equ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362320" cy="622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65760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3200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60640" y="3359160"/>
            <a:ext cx="40644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410080" y="3359160"/>
            <a:ext cx="406440" cy="60948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3809880" y="1752480"/>
            <a:ext cx="5334120" cy="2210040"/>
            <a:chOff x="3809880" y="1752480"/>
            <a:chExt cx="5334120" cy="2210040"/>
          </a:xfrm>
        </p:grpSpPr>
        <p:sp>
          <p:nvSpPr>
            <p:cNvPr id="89" name=""/>
            <p:cNvSpPr/>
            <p:nvPr/>
          </p:nvSpPr>
          <p:spPr>
            <a:xfrm>
              <a:off x="3809880" y="2514600"/>
              <a:ext cx="38124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72200" y="1752480"/>
              <a:ext cx="2971800" cy="15242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6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4 = 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1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1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6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1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a2e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89240" y="2514600"/>
            <a:ext cx="1625760" cy="62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2286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You can solve                   this equ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54:09Z</dcterms:created>
  <dc:creator>Bob Greer</dc:creator>
  <dc:description/>
  <dc:language>en-US</dc:language>
  <cp:lastModifiedBy>Eduardo Contreras</cp:lastModifiedBy>
  <dcterms:modified xsi:type="dcterms:W3CDTF">2003-07-04T01:53:00Z</dcterms:modified>
  <cp:revision>8</cp:revision>
  <dc:subject/>
  <dc:title>PowerPoint Presentation</dc:title>
</cp:coreProperties>
</file>