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ct" ContentType="image/x-pict"/>
  <Override PartName="/ppt/media/image4.pct" ContentType="image/x-pict"/>
  <Override PartName="/ppt/media/image5.pct" ContentType="image/x-pict"/>
  <Override PartName="/ppt/media/image6.pct" ContentType="image/x-pict"/>
  <Override PartName="/ppt/media/image7.pct" ContentType="image/x-pict"/>
  <Override PartName="/ppt/media/image8.pct" ContentType="image/x-pict"/>
  <Override PartName="/ppt/media/image9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3C25-1653-4C73-B089-D2C58BC10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4633-3738-4A58-AF98-253FC01C2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EEAB-E587-4ADF-A621-C657EBCC6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7025-5664-4689-9F2E-B5D7A1B68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1315-DBEE-4759-BC2E-063BDF640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9016-3E81-4DD7-9A93-2E1783FE0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3537-0DCE-4482-9736-3B9967986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EBD1-748D-4784-A89F-1848A8958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BFB7-6B40-4340-9095-24B7D6A51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376B-52B4-4327-B7F0-0E59640C7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1D92-C6CC-4074-BE57-980B5F75E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DEDA-513C-4A61-B173-42835B354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a2e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A1459-2E25-4410-AE6A-89D34A5F57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image" Target="../media/image6.pct"/><Relationship Id="rId3" Type="http://schemas.openxmlformats.org/officeDocument/2006/relationships/image" Target="../media/image6.pct"/><Relationship Id="rId4" Type="http://schemas.openxmlformats.org/officeDocument/2006/relationships/image" Target="../media/image7.pct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a2e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990720" y="304920"/>
            <a:ext cx="4006800" cy="163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olving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666880" y="2209680"/>
            <a:ext cx="4449960" cy="163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-Step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124080" y="5840280"/>
            <a:ext cx="1197000" cy="20336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162920" y="3809880"/>
            <a:ext cx="1197000" cy="20336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3581280" y="-1371600"/>
            <a:ext cx="1197000" cy="20336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7086600" y="609480"/>
            <a:ext cx="1197000" cy="20336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3276720" y="2057400"/>
            <a:ext cx="1197000" cy="20336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1523880" y="4191120"/>
            <a:ext cx="6275520" cy="163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quations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500"/>
                            </p:stCondLst>
                            <p:childTnLst>
                              <p:par>
                                <p:cTn id="9" nodeType="afterEffect" fill="hold" presetClass="entr" presetID="18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1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500"/>
                            </p:stCondLst>
                            <p:childTnLst>
                              <p:par>
                                <p:cTn id="17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8000"/>
                            </p:stCondLst>
                            <p:childTnLst>
                              <p:par>
                                <p:cTn id="21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500"/>
                            </p:stCondLst>
                            <p:childTnLst>
                              <p:par>
                                <p:cTn id="25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3000"/>
                            </p:stCondLst>
                            <p:childTnLst>
                              <p:par>
                                <p:cTn id="29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5500"/>
                            </p:stCondLst>
                            <p:childTnLst>
                              <p:par>
                                <p:cTn id="33" nodeType="afterEffect" fill="hold" presetClass="entr" presetID="18" presetSubtype="3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a2e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22860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Solve the following 2-step equation…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1981080" y="3200400"/>
                <a:ext cx="5334120" cy="10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a2e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22860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your first step will be to isolate the variable term.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2921040" y="2222640"/>
                <a:ext cx="370836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7" name=""/>
          <p:cNvSpPr/>
          <p:nvPr/>
        </p:nvSpPr>
        <p:spPr>
          <a:xfrm>
            <a:off x="2743200" y="2133720"/>
            <a:ext cx="1143000" cy="838080"/>
          </a:xfrm>
          <a:prstGeom prst="ellipse">
            <a:avLst/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23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a2e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297180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00"/>
                </a:solidFill>
                <a:latin typeface="Times New Roman"/>
              </a:rPr>
              <a:t>first!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22860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In other words, 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always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114300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do the addi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04156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or subtrac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3000"/>
                            </p:stCondLst>
                            <p:childTnLst>
                              <p:par>
                                <p:cTn id="217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a2e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3016080" y="4114800"/>
                <a:ext cx="351792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0" y="228600"/>
            <a:ext cx="9144000" cy="41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In other words, 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always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                  do the addition                    or subtraction                   </a:t>
            </a:r>
            <a:r>
              <a:rPr b="1" lang="en-US" sz="8800" spc="-1" strike="noStrike">
                <a:solidFill>
                  <a:srgbClr val="ff0000"/>
                </a:solidFill>
                <a:latin typeface="Times New Roman"/>
              </a:rPr>
              <a:t>first!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3962520" y="4889520"/>
                <a:ext cx="97776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5575320" y="4876920"/>
                <a:ext cx="97776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6" name=""/>
          <p:cNvSpPr/>
          <p:nvPr/>
        </p:nvSpPr>
        <p:spPr>
          <a:xfrm>
            <a:off x="3048120" y="5638680"/>
            <a:ext cx="3504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3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5500"/>
                            </p:stCondLst>
                            <p:childTnLst>
                              <p:par>
                                <p:cTn id="240" nodeType="afterEffect" fill="hold" presetClass="entr" presetID="16" presetSubtype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a2e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3016080" y="4114800"/>
                <a:ext cx="351792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8" name=""/>
          <p:cNvSpPr/>
          <p:nvPr/>
        </p:nvSpPr>
        <p:spPr>
          <a:xfrm>
            <a:off x="0" y="228600"/>
            <a:ext cx="914400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000000"/>
                </a:solidFill>
                <a:latin typeface="Times New Roman"/>
              </a:rPr>
              <a:t>Now you have changed the equation to one you can easily solve.</a:t>
            </a:r>
            <a:endParaRPr b="0" lang="en-US" sz="6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3962520" y="4889520"/>
                <a:ext cx="97776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5575320" y="4876920"/>
                <a:ext cx="97776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3048120" y="5638680"/>
            <a:ext cx="3504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267080" y="3429000"/>
            <a:ext cx="4876920" cy="1981080"/>
            <a:chOff x="4267080" y="3429000"/>
            <a:chExt cx="4876920" cy="1981080"/>
          </a:xfrm>
        </p:grpSpPr>
        <p:sp>
          <p:nvSpPr>
            <p:cNvPr id="113" name=""/>
            <p:cNvSpPr/>
            <p:nvPr/>
          </p:nvSpPr>
          <p:spPr>
            <a:xfrm>
              <a:off x="4267080" y="4114800"/>
              <a:ext cx="685800" cy="12952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629400" y="3429000"/>
              <a:ext cx="2514600" cy="1600200"/>
            </a:xfrm>
            <a:prstGeom prst="cloudCallout">
              <a:avLst>
                <a:gd name="adj1" fmla="val -56185"/>
                <a:gd name="adj2" fmla="val 7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000000"/>
                  </a:solidFill>
                  <a:latin typeface="Times New Roman"/>
                </a:rPr>
                <a:t>99 - 9 = 90</a:t>
              </a: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a2e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228600"/>
            <a:ext cx="914400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000000"/>
                </a:solidFill>
                <a:latin typeface="Times New Roman"/>
              </a:rPr>
              <a:t>Now you have changed the equation to one you can easily solve.</a:t>
            </a:r>
            <a:endParaRPr b="0" lang="en-US" sz="6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4076640" y="4114800"/>
                <a:ext cx="24004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4038480" y="479412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638680" y="47941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4267080" y="4952880"/>
                <a:ext cx="38124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5867280" y="4952880"/>
                <a:ext cx="38124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21" name=""/>
          <p:cNvGrpSpPr/>
          <p:nvPr/>
        </p:nvGrpSpPr>
        <p:grpSpPr>
          <a:xfrm>
            <a:off x="4114800" y="3657600"/>
            <a:ext cx="5029200" cy="1905120"/>
            <a:chOff x="4114800" y="3657600"/>
            <a:chExt cx="5029200" cy="1905120"/>
          </a:xfrm>
        </p:grpSpPr>
        <p:sp>
          <p:nvSpPr>
            <p:cNvPr id="122" name=""/>
            <p:cNvSpPr/>
            <p:nvPr/>
          </p:nvSpPr>
          <p:spPr>
            <a:xfrm>
              <a:off x="4114800" y="4114800"/>
              <a:ext cx="380880" cy="14479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400800" y="3657600"/>
              <a:ext cx="2743200" cy="1600200"/>
            </a:xfrm>
            <a:prstGeom prst="cloudCallout">
              <a:avLst>
                <a:gd name="adj1" fmla="val -52259"/>
                <a:gd name="adj2" fmla="val 3948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000000"/>
                  </a:solidFill>
                  <a:latin typeface="Times New Roman"/>
                </a:rPr>
                <a:t>90 </a:t>
              </a:r>
              <a:r>
                <a:rPr b="1" lang="en-US" sz="3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</a:t>
              </a:r>
              <a:r>
                <a:rPr b="1" lang="en-US" sz="3400" spc="-1" strike="noStrike">
                  <a:solidFill>
                    <a:srgbClr val="000000"/>
                  </a:solidFill>
                  <a:latin typeface="Times New Roman"/>
                </a:rPr>
                <a:t> 9 = 10</a:t>
              </a: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5500"/>
                            </p:stCondLst>
                            <p:childTnLst>
                              <p:par>
                                <p:cTn id="26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a2e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228600"/>
            <a:ext cx="914400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000000"/>
                </a:solidFill>
                <a:latin typeface="Times New Roman"/>
              </a:rPr>
              <a:t>Now you have changed the equation to one you can easily solve.</a:t>
            </a:r>
            <a:endParaRPr b="0" lang="en-US" sz="6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4457880" y="4114800"/>
                <a:ext cx="194292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a2e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22860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As you solve these,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11113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you just need to remember one thing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1454040" y="3467160"/>
                <a:ext cx="4648320" cy="79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1371600" y="4381560"/>
                <a:ext cx="5257800" cy="79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390680" y="5372280"/>
                <a:ext cx="5664240" cy="79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74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8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4500"/>
                            </p:stCondLst>
                            <p:childTnLst>
                              <p:par>
                                <p:cTn id="28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7000"/>
                            </p:stCondLst>
                            <p:childTnLst>
                              <p:par>
                                <p:cTn id="28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a2e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22860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Do the addition                   or subtrac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198108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000000"/>
                </a:solidFill>
                <a:latin typeface="Times New Roman"/>
              </a:rPr>
              <a:t>first!</a:t>
            </a:r>
            <a:endParaRPr b="0" lang="en-US" sz="6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1454040" y="3467160"/>
                <a:ext cx="4648320" cy="79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1371600" y="4381560"/>
                <a:ext cx="5257800" cy="79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1390680" y="5372280"/>
                <a:ext cx="5664240" cy="79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74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8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a2e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1454040" y="762120"/>
                <a:ext cx="4648320" cy="79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371600" y="2705040"/>
                <a:ext cx="525780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1390680" y="4686480"/>
                <a:ext cx="5664240" cy="79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74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2743200" y="1676520"/>
                <a:ext cx="2400480" cy="79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2654280" y="3695760"/>
                <a:ext cx="2984400" cy="79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2679840" y="5676840"/>
                <a:ext cx="283212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23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500"/>
                            </p:stCondLst>
                            <p:childTnLst>
                              <p:par>
                                <p:cTn id="303" nodeType="afterEffect" fill="hold" presetClass="entr" presetID="23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500"/>
                            </p:stCondLst>
                            <p:childTnLst>
                              <p:par>
                                <p:cTn id="314" nodeType="afterEffect" fill="hold" presetClass="entr" presetID="23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a2e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28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You already know how       to solve 1- step equations                           like these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1523880" y="4495680"/>
                <a:ext cx="23878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5029200" y="4495680"/>
                <a:ext cx="273060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3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0"/>
                            </p:stCondLst>
                            <p:childTnLst>
                              <p:par>
                                <p:cTn id="44" nodeType="afterEffect" fill="hold" presetClass="entr" presetID="16" presetSubtype="4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7500"/>
                            </p:stCondLst>
                            <p:childTnLst>
                              <p:par>
                                <p:cTn id="48" nodeType="afterEffect" fill="hold" presetClass="entr" presetID="16" presetSubtype="4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a2e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228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Use inverse operations              to isolate                            the variable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1523880" y="4495680"/>
                <a:ext cx="23878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5029200" y="4495680"/>
                <a:ext cx="273060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" name=""/>
          <p:cNvSpPr/>
          <p:nvPr/>
        </p:nvSpPr>
        <p:spPr>
          <a:xfrm>
            <a:off x="1447920" y="518148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124080" y="518148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1752480" y="5334120"/>
                <a:ext cx="35568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3429000" y="5334120"/>
                <a:ext cx="35568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5562720" y="5257800"/>
                <a:ext cx="97776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7086600" y="5257800"/>
                <a:ext cx="97776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3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4400"/>
                            </p:stCondLst>
                            <p:childTnLst>
                              <p:par>
                                <p:cTn id="59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9900"/>
                            </p:stCondLst>
                            <p:childTnLst>
                              <p:par>
                                <p:cTn id="6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2400"/>
                            </p:stCondLst>
                            <p:childTnLst>
                              <p:par>
                                <p:cTn id="6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4900"/>
                            </p:stCondLst>
                            <p:childTnLst>
                              <p:par>
                                <p:cTn id="7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7400"/>
                            </p:stCondLst>
                            <p:childTnLst>
                              <p:par>
                                <p:cTn id="7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9900"/>
                            </p:stCondLst>
                            <p:childTnLst>
                              <p:par>
                                <p:cTn id="7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a2e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228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Use inverse operations              to isolate                            the variable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879560" y="4495680"/>
            <a:ext cx="1930320" cy="6224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5029200" y="4489560"/>
            <a:ext cx="208296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a2e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228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But most linear equations              are slightly more      complicated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2597040" y="3429000"/>
                <a:ext cx="394992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9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3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a2e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228600"/>
            <a:ext cx="9144000" cy="422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In mathematics, it’s often easier to break a problem down into simpler steps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For example, break …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2666880" y="4876920"/>
                <a:ext cx="394992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3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a2e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22860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. . . into something    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121932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we already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36232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know how to do.     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679840" y="3505320"/>
            <a:ext cx="3949560" cy="6220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3657600" y="4267080"/>
            <a:ext cx="1359000" cy="6098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5638680" y="4267080"/>
            <a:ext cx="1359000" cy="6098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2666880" y="5105520"/>
            <a:ext cx="4343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3581280" y="5410080"/>
            <a:ext cx="2362320" cy="6224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4114800" y="3505320"/>
            <a:ext cx="762120" cy="14475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010280" y="2133720"/>
            <a:ext cx="2133720" cy="2514600"/>
          </a:xfrm>
          <a:prstGeom prst="cloudCallout">
            <a:avLst>
              <a:gd name="adj1" fmla="val -53273"/>
              <a:gd name="adj2" fmla="val 4766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5 + 21 = 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3124080" y="3429000"/>
            <a:ext cx="5562720" cy="2286000"/>
            <a:chOff x="3124080" y="3429000"/>
            <a:chExt cx="5562720" cy="2286000"/>
          </a:xfrm>
        </p:grpSpPr>
        <p:sp>
          <p:nvSpPr>
            <p:cNvPr id="79" name=""/>
            <p:cNvSpPr/>
            <p:nvPr/>
          </p:nvSpPr>
          <p:spPr>
            <a:xfrm>
              <a:off x="3124080" y="4191120"/>
              <a:ext cx="457200" cy="129528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6019920" y="3429000"/>
              <a:ext cx="2666880" cy="228600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3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800"/>
                            </p:stCondLst>
                            <p:childTnLst>
                              <p:par>
                                <p:cTn id="118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3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2400"/>
                            </p:stCondLst>
                            <p:childTnLst>
                              <p:par>
                                <p:cTn id="122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3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4200"/>
                            </p:stCondLst>
                            <p:childTnLst>
                              <p:par>
                                <p:cTn id="126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8700"/>
                            </p:stCondLst>
                            <p:childTnLst>
                              <p:par>
                                <p:cTn id="13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1200"/>
                            </p:stCondLst>
                            <p:childTnLst>
                              <p:par>
                                <p:cTn id="13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3700"/>
                            </p:stCondLst>
                            <p:childTnLst>
                              <p:par>
                                <p:cTn id="138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6200"/>
                            </p:stCondLst>
                            <p:childTnLst>
                              <p:par>
                                <p:cTn id="14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a2e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22860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You can solve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114300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this equation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657600" y="2514600"/>
            <a:ext cx="2362320" cy="6224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3657600" y="320040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57800" y="32004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3860640" y="3359160"/>
            <a:ext cx="406440" cy="6094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5410080" y="3359160"/>
            <a:ext cx="406440" cy="60948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3809880" y="1752480"/>
            <a:ext cx="5334120" cy="2210040"/>
            <a:chOff x="3809880" y="1752480"/>
            <a:chExt cx="5334120" cy="2210040"/>
          </a:xfrm>
        </p:grpSpPr>
        <p:sp>
          <p:nvSpPr>
            <p:cNvPr id="89" name=""/>
            <p:cNvSpPr/>
            <p:nvPr/>
          </p:nvSpPr>
          <p:spPr>
            <a:xfrm>
              <a:off x="3809880" y="2514600"/>
              <a:ext cx="381240" cy="14479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72200" y="1752480"/>
              <a:ext cx="2971800" cy="1524240"/>
            </a:xfrm>
            <a:prstGeom prst="cloudCallout">
              <a:avLst>
                <a:gd name="adj1" fmla="val -43750"/>
                <a:gd name="adj2" fmla="val 7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16 </a:t>
              </a: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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4 = 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3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200"/>
                            </p:stCondLst>
                            <p:childTnLst>
                              <p:par>
                                <p:cTn id="154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3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100"/>
                            </p:stCondLst>
                            <p:childTnLst>
                              <p:par>
                                <p:cTn id="158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100"/>
                            </p:stCondLst>
                            <p:childTnLst>
                              <p:par>
                                <p:cTn id="165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600"/>
                            </p:stCondLst>
                            <p:childTnLst>
                              <p:par>
                                <p:cTn id="16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3100"/>
                            </p:stCondLst>
                            <p:childTnLst>
                              <p:par>
                                <p:cTn id="17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5600"/>
                            </p:stCondLst>
                            <p:childTnLst>
                              <p:par>
                                <p:cTn id="17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a2e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089240" y="2514600"/>
            <a:ext cx="1625760" cy="6224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0" y="22860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You can solve                   this equation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3T19:54:09Z</dcterms:created>
  <dc:creator>Bob Greer</dc:creator>
  <dc:description/>
  <dc:language>en-US</dc:language>
  <cp:lastModifiedBy>Eduardo Contreras</cp:lastModifiedBy>
  <dcterms:modified xsi:type="dcterms:W3CDTF">2003-07-04T01:53:00Z</dcterms:modified>
  <cp:revision>8</cp:revision>
  <dc:subject/>
  <dc:title>PowerPoint Presentation</dc:title>
</cp:coreProperties>
</file>