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81F-8C02-4A5E-ADF8-966C0166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8388-6E00-496B-B824-85F18044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4ABA-0ABA-4ECD-850B-6BDA69C2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D74-A502-479B-A2E5-17635140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102-FF66-4B4B-A229-C49EFB86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D64-690C-4860-8BBD-ACC4D4BA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931-DF5F-4BE0-9541-ABE41B15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466-17A6-4831-A0A1-233FC693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3F3-064D-4037-921D-2DB2B023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065-5921-41C1-BCEB-5384D9DD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B65-7347-417E-8700-9A556158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51C-9819-464E-8714-1F53169D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C97D-E6BF-49F6-9EA9-F502A87F2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04920"/>
            <a:ext cx="40068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v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2209680"/>
            <a:ext cx="44499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-Ste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58402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-137160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86600" y="6094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2057400"/>
            <a:ext cx="1197000" cy="203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23880" y="4191120"/>
            <a:ext cx="627552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qua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olve the following 2-step equatio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3200400"/>
                <a:ext cx="53341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r first step will be to isolate the variable term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21040" y="2222640"/>
                <a:ext cx="3708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743200" y="2133720"/>
            <a:ext cx="11430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97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0415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228600"/>
            <a:ext cx="9144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do the addition                    or subtraction                   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3429000"/>
            <a:ext cx="4876920" cy="1981080"/>
            <a:chOff x="4267080" y="3429000"/>
            <a:chExt cx="4876920" cy="1981080"/>
          </a:xfrm>
        </p:grpSpPr>
        <p:sp>
          <p:nvSpPr>
            <p:cNvPr id="113" name=""/>
            <p:cNvSpPr/>
            <p:nvPr/>
          </p:nvSpPr>
          <p:spPr>
            <a:xfrm>
              <a:off x="4267080" y="4114800"/>
              <a:ext cx="6858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3429000"/>
              <a:ext cx="2514600" cy="1600200"/>
            </a:xfrm>
            <a:prstGeom prst="cloudCallout">
              <a:avLst>
                <a:gd name="adj1" fmla="val -56185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9 - 9 = 9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076640" y="4114800"/>
                <a:ext cx="2400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038480" y="4794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79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670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672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" name=""/>
          <p:cNvGrpSpPr/>
          <p:nvPr/>
        </p:nvGrpSpPr>
        <p:grpSpPr>
          <a:xfrm>
            <a:off x="4114800" y="3657600"/>
            <a:ext cx="5029200" cy="1905120"/>
            <a:chOff x="4114800" y="3657600"/>
            <a:chExt cx="5029200" cy="1905120"/>
          </a:xfrm>
        </p:grpSpPr>
        <p:sp>
          <p:nvSpPr>
            <p:cNvPr id="122" name=""/>
            <p:cNvSpPr/>
            <p:nvPr/>
          </p:nvSpPr>
          <p:spPr>
            <a:xfrm>
              <a:off x="4114800" y="4114800"/>
              <a:ext cx="38088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3657600"/>
              <a:ext cx="2743200" cy="1600200"/>
            </a:xfrm>
            <a:prstGeom prst="cloudCallout">
              <a:avLst>
                <a:gd name="adj1" fmla="val -52259"/>
                <a:gd name="adj2" fmla="val 394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0 </a:t>
              </a: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 9 = 1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57880" y="4114800"/>
                <a:ext cx="1942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s you solve thes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11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just need to remember one th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                   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10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imes New Roman"/>
              </a:rPr>
              <a:t>first!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54040" y="76212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71600" y="2705040"/>
                <a:ext cx="5257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90680" y="46864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43200" y="1676520"/>
                <a:ext cx="2400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654280" y="3695760"/>
                <a:ext cx="2984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679840" y="5676840"/>
                <a:ext cx="2832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already know how       to solve 1- step equations                           like the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44792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5248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2900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56272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08660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9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9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4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9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79560" y="4495680"/>
            <a:ext cx="1930320" cy="62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4489560"/>
            <a:ext cx="2082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ut most linear equations              are slightly more      complicat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97040" y="3429000"/>
                <a:ext cx="3949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mathematics, it’s often easier to break a problem down into simpler ste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or example, break …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4876920"/>
                <a:ext cx="39499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 . . into something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19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e alrea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now how to do.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79840" y="3505320"/>
            <a:ext cx="394956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35900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359000" cy="609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5105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3505320"/>
            <a:ext cx="76212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133720"/>
            <a:ext cx="2133720" cy="2514600"/>
          </a:xfrm>
          <a:prstGeom prst="cloudCallout">
            <a:avLst>
              <a:gd name="adj1" fmla="val -53273"/>
              <a:gd name="adj2" fmla="val 47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5 + 21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3429000"/>
            <a:ext cx="5562720" cy="2286000"/>
            <a:chOff x="3124080" y="3429000"/>
            <a:chExt cx="5562720" cy="2286000"/>
          </a:xfrm>
        </p:grpSpPr>
        <p:sp>
          <p:nvSpPr>
            <p:cNvPr id="79" name=""/>
            <p:cNvSpPr/>
            <p:nvPr/>
          </p:nvSpPr>
          <p:spPr>
            <a:xfrm>
              <a:off x="3124080" y="4191120"/>
              <a:ext cx="457200" cy="1295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019920" y="3429000"/>
              <a:ext cx="266688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7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576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60640" y="335916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10080" y="3359160"/>
            <a:ext cx="406440" cy="609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09880" y="1752480"/>
            <a:ext cx="5334120" cy="2210040"/>
            <a:chOff x="3809880" y="1752480"/>
            <a:chExt cx="5334120" cy="2210040"/>
          </a:xfrm>
        </p:grpSpPr>
        <p:sp>
          <p:nvSpPr>
            <p:cNvPr id="89" name=""/>
            <p:cNvSpPr/>
            <p:nvPr/>
          </p:nvSpPr>
          <p:spPr>
            <a:xfrm>
              <a:off x="3809880" y="2514600"/>
              <a:ext cx="38124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1752480"/>
              <a:ext cx="2971800" cy="15242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4 =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1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89240" y="2514600"/>
            <a:ext cx="1625760" cy="62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                  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54:09Z</dcterms:created>
  <dc:creator>Bob Greer</dc:creator>
  <dc:description/>
  <dc:language>en-US</dc:language>
  <cp:lastModifiedBy>Eduardo Contreras</cp:lastModifiedBy>
  <dcterms:modified xsi:type="dcterms:W3CDTF">2003-07-04T01:53:00Z</dcterms:modified>
  <cp:revision>8</cp:revision>
  <dc:subject/>
  <dc:title>PowerPoint Presentation</dc:title>
</cp:coreProperties>
</file>