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B410-01F3-47C4-9C95-23119C89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4916-0A78-4CE0-90C1-EACCBF99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96E7-33BC-4FD1-AEAE-B658113F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5D10-6EAC-4035-ABF7-819A3BF1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5627-0297-40DF-9D20-AFB428F9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1F3C-0992-4E91-B836-889B2F56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E9A9-12C5-4CD7-9F0B-B70DDEB9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B7C2-530C-4CC1-B6D1-69E06DE6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68A8-3BE9-4EB1-85B2-09E2FAF0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0F23-C945-4754-892C-EB074A7F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A008-73DA-4D18-8F7A-BF603120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56D4-1C8A-4836-BEEA-7703EB31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7ADA-6F4C-4FB4-B7A2-07C326517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6.pct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304920"/>
            <a:ext cx="400680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lving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666880" y="2209680"/>
            <a:ext cx="444996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-Step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24080" y="5840280"/>
            <a:ext cx="1197000" cy="203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62920" y="3809880"/>
            <a:ext cx="1197000" cy="2033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81280" y="-1371600"/>
            <a:ext cx="1197000" cy="2033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86600" y="609480"/>
            <a:ext cx="1197000" cy="2033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276720" y="2057400"/>
            <a:ext cx="1197000" cy="2033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523880" y="4191120"/>
            <a:ext cx="627552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quation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olve the following 2-step equation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981080" y="3200400"/>
                <a:ext cx="533412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r first step will be to isolate the variable term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921040" y="2222640"/>
                <a:ext cx="37083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743200" y="2133720"/>
            <a:ext cx="1143000" cy="83808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9718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first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 other words,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143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o the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0415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r subtra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016080" y="4114800"/>
                <a:ext cx="35179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0" y="228600"/>
            <a:ext cx="914400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 other words,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           do the addition                    or subtraction                   </a:t>
            </a: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first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962520" y="4889520"/>
                <a:ext cx="9777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575320" y="4876920"/>
                <a:ext cx="977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3048120" y="5638680"/>
            <a:ext cx="350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500"/>
                            </p:stCondLst>
                            <p:childTnLst>
                              <p:par>
                                <p:cTn id="240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016080" y="4114800"/>
                <a:ext cx="35179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22860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Now you have changed the equation to one you can easily solve.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962520" y="4889520"/>
                <a:ext cx="9777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575320" y="4876920"/>
                <a:ext cx="977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048120" y="5638680"/>
            <a:ext cx="350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267080" y="3429000"/>
            <a:ext cx="4876920" cy="1981080"/>
            <a:chOff x="4267080" y="3429000"/>
            <a:chExt cx="4876920" cy="1981080"/>
          </a:xfrm>
        </p:grpSpPr>
        <p:sp>
          <p:nvSpPr>
            <p:cNvPr id="113" name=""/>
            <p:cNvSpPr/>
            <p:nvPr/>
          </p:nvSpPr>
          <p:spPr>
            <a:xfrm>
              <a:off x="4267080" y="4114800"/>
              <a:ext cx="685800" cy="1295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29400" y="3429000"/>
              <a:ext cx="2514600" cy="1600200"/>
            </a:xfrm>
            <a:prstGeom prst="cloudCallout">
              <a:avLst>
                <a:gd name="adj1" fmla="val -56185"/>
                <a:gd name="adj2" fmla="val 7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99 - 9 = 90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2860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Now you have changed the equation to one you can easily solve.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076640" y="4114800"/>
                <a:ext cx="24004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038480" y="4794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4794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267080" y="4952880"/>
                <a:ext cx="3812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867280" y="4952880"/>
                <a:ext cx="3812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1" name=""/>
          <p:cNvGrpSpPr/>
          <p:nvPr/>
        </p:nvGrpSpPr>
        <p:grpSpPr>
          <a:xfrm>
            <a:off x="4114800" y="3657600"/>
            <a:ext cx="5029200" cy="1905120"/>
            <a:chOff x="4114800" y="3657600"/>
            <a:chExt cx="5029200" cy="1905120"/>
          </a:xfrm>
        </p:grpSpPr>
        <p:sp>
          <p:nvSpPr>
            <p:cNvPr id="122" name=""/>
            <p:cNvSpPr/>
            <p:nvPr/>
          </p:nvSpPr>
          <p:spPr>
            <a:xfrm>
              <a:off x="4114800" y="4114800"/>
              <a:ext cx="38088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00800" y="3657600"/>
              <a:ext cx="2743200" cy="1600200"/>
            </a:xfrm>
            <a:prstGeom prst="cloudCallout">
              <a:avLst>
                <a:gd name="adj1" fmla="val -52259"/>
                <a:gd name="adj2" fmla="val 3948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90 </a:t>
              </a: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 9 = 10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2860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Now you have changed the equation to one you can easily solve.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457880" y="4114800"/>
                <a:ext cx="19429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s you solve these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113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 just need to remember one thing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454040" y="3467160"/>
                <a:ext cx="46483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371600" y="4381560"/>
                <a:ext cx="52578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90680" y="5372280"/>
                <a:ext cx="56642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5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o the addition                   or subtra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98108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Times New Roman"/>
              </a:rPr>
              <a:t>first!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454040" y="3467160"/>
                <a:ext cx="46483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371600" y="4381560"/>
                <a:ext cx="52578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390680" y="5372280"/>
                <a:ext cx="56642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454040" y="762120"/>
                <a:ext cx="46483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371600" y="2705040"/>
                <a:ext cx="52578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390680" y="4686480"/>
                <a:ext cx="56642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743200" y="1676520"/>
                <a:ext cx="24004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654280" y="3695760"/>
                <a:ext cx="29844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679840" y="5676840"/>
                <a:ext cx="28321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 already know how       to solve 1- step equations                           like thes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523880" y="4495680"/>
                <a:ext cx="23878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029200" y="4495680"/>
                <a:ext cx="27306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se inverse operations              to isolate                            the variab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523880" y="4495680"/>
                <a:ext cx="23878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029200" y="4495680"/>
                <a:ext cx="27306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1447920" y="51814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51814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752480" y="5334120"/>
                <a:ext cx="3556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429000" y="5334120"/>
                <a:ext cx="3556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562720" y="5257800"/>
                <a:ext cx="9777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086600" y="5257800"/>
                <a:ext cx="9777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4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99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24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49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74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99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se inverse operations              to isolate                            the variab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79560" y="4495680"/>
            <a:ext cx="1930320" cy="622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29200" y="4489560"/>
            <a:ext cx="20829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ut most linear equations              are slightly more      complicate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597040" y="3429000"/>
                <a:ext cx="39499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28600"/>
            <a:ext cx="914400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 mathematics, it’s often easier to break a problem down into simpler step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or example, break …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666880" y="4876920"/>
                <a:ext cx="39499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 . . into something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2193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e alread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3623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know how to do.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679840" y="3505320"/>
            <a:ext cx="3949560" cy="622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57600" y="4267080"/>
            <a:ext cx="1359000" cy="609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359000" cy="609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66880" y="51055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581280" y="5410080"/>
            <a:ext cx="2362320" cy="622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114800" y="3505320"/>
            <a:ext cx="762120" cy="1447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2133720"/>
            <a:ext cx="2133720" cy="2514600"/>
          </a:xfrm>
          <a:prstGeom prst="cloudCallout">
            <a:avLst>
              <a:gd name="adj1" fmla="val -53273"/>
              <a:gd name="adj2" fmla="val 476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5 + 21 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124080" y="3429000"/>
            <a:ext cx="5562720" cy="2286000"/>
            <a:chOff x="3124080" y="3429000"/>
            <a:chExt cx="5562720" cy="2286000"/>
          </a:xfrm>
        </p:grpSpPr>
        <p:sp>
          <p:nvSpPr>
            <p:cNvPr id="79" name=""/>
            <p:cNvSpPr/>
            <p:nvPr/>
          </p:nvSpPr>
          <p:spPr>
            <a:xfrm>
              <a:off x="3124080" y="4191120"/>
              <a:ext cx="457200" cy="12952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6019920" y="3429000"/>
              <a:ext cx="2666880" cy="2286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8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4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2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7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12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370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62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 can solv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43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equati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2362320" cy="622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657600" y="3200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60640" y="3359160"/>
            <a:ext cx="406440" cy="609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410080" y="3359160"/>
            <a:ext cx="406440" cy="60948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3809880" y="1752480"/>
            <a:ext cx="5334120" cy="2210040"/>
            <a:chOff x="3809880" y="1752480"/>
            <a:chExt cx="5334120" cy="2210040"/>
          </a:xfrm>
        </p:grpSpPr>
        <p:sp>
          <p:nvSpPr>
            <p:cNvPr id="89" name=""/>
            <p:cNvSpPr/>
            <p:nvPr/>
          </p:nvSpPr>
          <p:spPr>
            <a:xfrm>
              <a:off x="3809880" y="2514600"/>
              <a:ext cx="38124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72200" y="1752480"/>
              <a:ext cx="2971800" cy="152424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6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4 = 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2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100"/>
                            </p:stCondLst>
                            <p:childTnLst>
                              <p:par>
                                <p:cTn id="15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1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6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31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6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89240" y="2514600"/>
            <a:ext cx="1625760" cy="622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 can solve                   this equati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9:54:09Z</dcterms:created>
  <dc:creator>Bob Greer</dc:creator>
  <dc:description/>
  <dc:language>en-US</dc:language>
  <cp:lastModifiedBy>Eduardo Contreras</cp:lastModifiedBy>
  <dcterms:modified xsi:type="dcterms:W3CDTF">2003-07-04T01:53:00Z</dcterms:modified>
  <cp:revision>8</cp:revision>
  <dc:subject/>
  <dc:title>PowerPoint Presentation</dc:title>
</cp:coreProperties>
</file>